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5EA7-13BE-4537-BD30-40BD94A6720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5D9C-D303-48C2-AE80-53F752E7423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2651-3C40-477E-912C-AA4B21BA822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150B-4FA3-4AB0-80F9-9982319BF6C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8A11-F440-47EB-952E-E97A178F080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DA6F-031E-4AF7-A8B3-5C4933475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F3CA-B4CF-4A9E-9C25-E3471D96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BB10-8E03-4419-8F6C-1A31ADECE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DF7C-3028-41F2-8A63-B430D9E11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9879-6477-417B-B9F5-9388F0F4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95B2-AC2B-4A5A-8820-6A1376BF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E30C-53CB-4093-ACD8-944646EA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2413-D218-4830-9BEC-A364AD57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550D-A637-4DD8-BEFD-DB6182CE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9ED9-5F7E-4F57-B37D-4244E420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966E-FB8A-4C8F-91CB-C6ACDBFD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6274-8632-4D2A-A89D-82126DDC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0682-FCB7-45C5-92C1-CBECA6E66B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Twynyrodyn Community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327A-88E7-44F1-A0C8-620C76B1FDF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3" descr=""/>
          <p:cNvPicPr/>
          <p:nvPr/>
        </p:nvPicPr>
        <p:blipFill>
          <a:blip r:embed="rId1"/>
          <a:stretch/>
        </p:blipFill>
        <p:spPr>
          <a:xfrm>
            <a:off x="249120" y="858960"/>
            <a:ext cx="8845560" cy="3633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Badge"/>
          <p:cNvPicPr/>
          <p:nvPr/>
        </p:nvPicPr>
        <p:blipFill>
          <a:blip r:embed="rId2"/>
          <a:stretch/>
        </p:blipFill>
        <p:spPr>
          <a:xfrm>
            <a:off x="428760" y="4643280"/>
            <a:ext cx="1214280" cy="1568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Badge"/>
          <p:cNvPicPr/>
          <p:nvPr/>
        </p:nvPicPr>
        <p:blipFill>
          <a:blip r:embed="rId3"/>
          <a:stretch/>
        </p:blipFill>
        <p:spPr>
          <a:xfrm>
            <a:off x="7500960" y="4714920"/>
            <a:ext cx="1214280" cy="1568520"/>
          </a:xfrm>
          <a:prstGeom prst="rect">
            <a:avLst/>
          </a:prstGeom>
          <a:ln w="0">
            <a:noFill/>
          </a:ln>
        </p:spPr>
      </p:pic>
      <p:sp>
        <p:nvSpPr>
          <p:cNvPr id="51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Twynyrodyn Community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Miss N Car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Twynyrodyn Community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571680" y="0"/>
            <a:ext cx="814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To create a successful philosophy  carry out theses 10 ste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214200" y="1071720"/>
            <a:ext cx="86439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Comic Sans MS"/>
              </a:rPr>
              <a:t>Step 1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reparation  –          Prepare the ro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arm up activities ( Fruit cocktail, Trun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Comic Sans MS"/>
              </a:rPr>
              <a:t>Step 2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resentation  –        Stimulu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tory, picture ( share resourc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Comic Sans MS"/>
              </a:rPr>
              <a:t>Step 3</a:t>
            </a:r>
            <a:r>
              <a:rPr b="1" lang="en-GB" sz="1800" spc="-1" strike="noStrike">
                <a:solidFill>
                  <a:srgbClr val="00b0f0"/>
                </a:solidFill>
                <a:latin typeface="Comic Sans M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inking time  –      Reflect on the stimul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Comic Sans MS"/>
              </a:rPr>
              <a:t>Step 4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onversation  -       share their thoughts togeth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Comic Sans MS"/>
              </a:rPr>
              <a:t>Step 5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ormulation of ques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Twynyrodyn Community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214200" y="285840"/>
            <a:ext cx="8715600" cy="40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Comic Sans MS"/>
              </a:rPr>
              <a:t>Step 6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iring –                 show/read  ques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Comic Sans MS"/>
              </a:rPr>
              <a:t>Step 7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election  -            Select the chosen ques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Comic Sans MS"/>
              </a:rPr>
              <a:t>Step 8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irst words  -         start off with person who wrote ques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irst reactions to ques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Comic Sans MS"/>
              </a:rPr>
              <a:t>Step 9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uilding  -              Make more discussion more comple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Comic Sans MS"/>
              </a:rPr>
              <a:t>Step 10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ast words –          reflect on lesson and write in class journ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Twynyrodyn Community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9:38:49Z</dcterms:created>
  <dc:creator>Nadine</dc:creator>
  <dc:description/>
  <dc:language>en-US</dc:language>
  <cp:lastModifiedBy>Nadine</cp:lastModifiedBy>
  <dcterms:modified xsi:type="dcterms:W3CDTF">2009-02-24T19:56:22Z</dcterms:modified>
  <cp:revision>2</cp:revision>
  <dc:subject/>
  <dc:title>Slide 1</dc:title>
</cp:coreProperties>
</file>