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FDC1-1778-404E-8757-C0181B459F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5383-4851-4491-BEDC-DE441627C8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3A3B-2949-48CD-9060-514B6C5908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325E-5D83-4976-B7DD-D29D3F484E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26DD-87D7-4D5D-860C-B4C799EAE9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568-E7BE-48F8-8550-716390C3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4EA-7A38-421C-A62C-2EC33F2C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8E2-B0E7-4CF1-A71D-D3D5A08C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574-55E9-4F4E-BAB0-201E3D9B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569-6D7F-4195-9A16-9F5D1687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974-6E35-41D2-8DD1-060C0F11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28B-32CA-4D87-86AB-62F50922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E86-03EA-4EB5-BAE6-B67538EA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328-26FC-4BBE-8558-BD565DBA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26F-390B-41D9-82E3-118FB016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421-1625-4EC2-AD65-267E53F5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B0A1-5C07-4F69-AFBC-AEFD6A35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5904-B340-4743-9E02-9B16B3CD01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1EF6-180D-45B1-B8D7-BBDC3528D2C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249120" y="858960"/>
            <a:ext cx="8845560" cy="363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Badge"/>
          <p:cNvPicPr/>
          <p:nvPr/>
        </p:nvPicPr>
        <p:blipFill>
          <a:blip r:embed="rId2"/>
          <a:stretch/>
        </p:blipFill>
        <p:spPr>
          <a:xfrm>
            <a:off x="428760" y="4643280"/>
            <a:ext cx="1214280" cy="156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adge"/>
          <p:cNvPicPr/>
          <p:nvPr/>
        </p:nvPicPr>
        <p:blipFill>
          <a:blip r:embed="rId3"/>
          <a:stretch/>
        </p:blipFill>
        <p:spPr>
          <a:xfrm>
            <a:off x="7500960" y="4714920"/>
            <a:ext cx="1214280" cy="1568520"/>
          </a:xfrm>
          <a:prstGeom prst="rect">
            <a:avLst/>
          </a:prstGeom>
          <a:ln w="0">
            <a:noFill/>
          </a:ln>
        </p:spPr>
      </p:pic>
      <p:sp>
        <p:nvSpPr>
          <p:cNvPr id="5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71680" y="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o create a successful philosophy  carry out theses 10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14200" y="1071720"/>
            <a:ext cx="86439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1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eparation  –          Prepare the 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arm up activities ( Fruit cocktail, Trun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2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esentation  –        Stimulu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ry, picture ( share resour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3</a:t>
            </a:r>
            <a:r>
              <a:rPr b="1" lang="en-GB" sz="1800" spc="-1" strike="noStrike">
                <a:solidFill>
                  <a:srgbClr val="00b0f0"/>
                </a:solidFill>
                <a:latin typeface="Comic Sans M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nking time  –      Reflect on the stimul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4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versation  -       share their thoughts toget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5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mulation of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14200" y="285840"/>
            <a:ext cx="87156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6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iring –                 show/read 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7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lection  -            Select the chosen ques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8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irst words  -         start off with person who wrote ques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irst reactions to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9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ilding  -              Make more discussion more comple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10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st words –          reflect on lesson and write in class jour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38:49Z</dcterms:created>
  <dc:creator>Nadine</dc:creator>
  <dc:description/>
  <dc:language>en-US</dc:language>
  <cp:lastModifiedBy>Nadine</cp:lastModifiedBy>
  <dcterms:modified xsi:type="dcterms:W3CDTF">2009-02-24T19:56:22Z</dcterms:modified>
  <cp:revision>2</cp:revision>
  <dc:subject/>
  <dc:title>Slide 1</dc:title>
</cp:coreProperties>
</file>