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9DAD-24E3-4BE2-9523-16AB445264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5C33-ACFE-4F95-B95E-3CDDC9CD4F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9F8A-6B26-4334-8055-D2F9BA39AD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5478-5046-42C2-AE0E-2DDE3D3275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E6A0-BA5E-42A7-B00A-632E523238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6FC-E5FE-43D4-BB9C-9435D4C1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BEA2-6A15-4DF6-A19A-DD8A0675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DE8-4F96-40C8-B88A-8EF09EE1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B99B-B616-44B2-9CA3-8BDBDA10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6D9-E23C-42EB-9D5C-0DA74060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B2C-4B4A-4CCB-B877-14472977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DDB4-6372-410D-B219-5822A70C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0EA-8602-4010-907E-A9D80765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8819-49D1-4A9A-BF14-D6E53886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23B-65F1-47FA-9CEA-ADB29CEF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8A8-FBD6-4BFA-B314-5610E2D1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1F80-ABDE-4824-8B25-3F730443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5C11-8D3F-4592-92E4-C5A2E33F33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E526-765F-446E-9A52-285767359CC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249120" y="858960"/>
            <a:ext cx="8845560" cy="363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Badge"/>
          <p:cNvPicPr/>
          <p:nvPr/>
        </p:nvPicPr>
        <p:blipFill>
          <a:blip r:embed="rId2"/>
          <a:stretch/>
        </p:blipFill>
        <p:spPr>
          <a:xfrm>
            <a:off x="428760" y="4643280"/>
            <a:ext cx="1214280" cy="156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adge"/>
          <p:cNvPicPr/>
          <p:nvPr/>
        </p:nvPicPr>
        <p:blipFill>
          <a:blip r:embed="rId3"/>
          <a:stretch/>
        </p:blipFill>
        <p:spPr>
          <a:xfrm>
            <a:off x="7500960" y="4714920"/>
            <a:ext cx="1214280" cy="1568520"/>
          </a:xfrm>
          <a:prstGeom prst="rect">
            <a:avLst/>
          </a:prstGeom>
          <a:ln w="0">
            <a:noFill/>
          </a:ln>
        </p:spPr>
      </p:pic>
      <p:sp>
        <p:nvSpPr>
          <p:cNvPr id="5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Miss N Ca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71680" y="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o create a successful philosophy  carry out theses 10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14200" y="1071720"/>
            <a:ext cx="86439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1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eparation  –          Prepare the ro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arm up activities ( Fruit cocktail, Trun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2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esentation  –        Stimulu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ory, picture ( share resour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3</a:t>
            </a:r>
            <a:r>
              <a:rPr b="1" lang="en-GB" sz="1800" spc="-1" strike="noStrike">
                <a:solidFill>
                  <a:srgbClr val="00b0f0"/>
                </a:solidFill>
                <a:latin typeface="Comic Sans M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nking time  –      Reflect on the stimul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4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versation  -       share their thoughts togeth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5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mulation of ques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214200" y="285840"/>
            <a:ext cx="871560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6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iring –                 show/read  ques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7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election  -            Select the chosen ques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8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irst words  -         start off with person who wrote ques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irst reactions to ques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9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ilding  -              Make more discussion more comple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10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st words –          reflect on lesson and write in class jour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9:38:49Z</dcterms:created>
  <dc:creator>Nadine</dc:creator>
  <dc:description/>
  <dc:language>en-US</dc:language>
  <cp:lastModifiedBy>Nadine</cp:lastModifiedBy>
  <dcterms:modified xsi:type="dcterms:W3CDTF">2009-02-24T19:56:22Z</dcterms:modified>
  <cp:revision>2</cp:revision>
  <dc:subject/>
  <dc:title>Slide 1</dc:title>
</cp:coreProperties>
</file>