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F4F8-EAC4-4F6A-801D-37970884E8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6914-F42C-4689-8BA8-CF8DA02E2C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821C-83C6-4B26-B79F-2C3855F395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5125-90F7-440D-9E93-BF0E21A944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3667-2257-4FC5-8467-D895ADF6AF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A4E-38BA-46D0-8858-09519034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5AC-6291-4FBF-82A7-546511C6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EF6-C4A5-4762-9858-3D1A5246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FF7-C568-40D4-AD54-942AD753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071-B047-4787-B5F0-332EF6C3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0B8-FCBC-42B2-BBB9-7D9057D2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1AE-485F-4EF0-94B8-A09E54D3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254-73C9-4C6B-A83B-675DE084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A78-FA9A-449F-8817-D081D287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900-2B4C-4696-AB9E-11070CEC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A8D-1282-459B-86AE-9CAAAC21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6DB-C2CF-40FC-A3AA-8E7810E6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99B2-7621-4645-A92A-8D3AF9A36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F0B8-DC69-4B4A-912B-0B58C3F043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49120" y="858960"/>
            <a:ext cx="8845560" cy="363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adge"/>
          <p:cNvPicPr/>
          <p:nvPr/>
        </p:nvPicPr>
        <p:blipFill>
          <a:blip r:embed="rId2"/>
          <a:stretch/>
        </p:blipFill>
        <p:spPr>
          <a:xfrm>
            <a:off x="428760" y="4643280"/>
            <a:ext cx="1214280" cy="156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adge"/>
          <p:cNvPicPr/>
          <p:nvPr/>
        </p:nvPicPr>
        <p:blipFill>
          <a:blip r:embed="rId3"/>
          <a:stretch/>
        </p:blipFill>
        <p:spPr>
          <a:xfrm>
            <a:off x="7500960" y="4714920"/>
            <a:ext cx="1214280" cy="1568520"/>
          </a:xfrm>
          <a:prstGeom prst="rect">
            <a:avLst/>
          </a:prstGeom>
          <a:ln w="0">
            <a:noFill/>
          </a:ln>
        </p:spPr>
      </p:pic>
      <p:sp>
        <p:nvSpPr>
          <p:cNvPr id="5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71680" y="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o create a successful philosophy  carry out theses 10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14200" y="1071720"/>
            <a:ext cx="8643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paration  –          Prepare the 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arm up activities ( Fruit cocktail, Trun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2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sentation  –        Stimul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ry, picture ( share resour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3</a:t>
            </a:r>
            <a:r>
              <a:rPr b="1" lang="en-GB" sz="1800" spc="-1" strike="noStrike">
                <a:solidFill>
                  <a:srgbClr val="00b0f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nking time  –      Reflect on the stim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4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versation  -       share their thoughts toge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5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mulation of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14200" y="285840"/>
            <a:ext cx="87156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6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iring –                 show/read 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7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lection  -            Select the chosen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8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words  -         start off with person who wrote ques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irst reactions to ques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9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uilding  -              Make more discussion more comple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Comic Sans MS"/>
              </a:rPr>
              <a:t>Step 10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st words –          reflect on lesson and write in class jour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38:49Z</dcterms:created>
  <dc:creator>Nadine</dc:creator>
  <dc:description/>
  <dc:language>en-US</dc:language>
  <cp:lastModifiedBy>Nadine</cp:lastModifiedBy>
  <dcterms:modified xsi:type="dcterms:W3CDTF">2009-02-24T19:56:22Z</dcterms:modified>
  <cp:revision>2</cp:revision>
  <dc:subject/>
  <dc:title>Slide 1</dc:title>
</cp:coreProperties>
</file>