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6A0-4D43-45F7-93DD-A370F940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C191-193A-4041-8903-02A6A5D5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B4E-7440-4BAE-AF72-09057B8A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B78-8E6C-4284-8354-6537C62B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0E8-B189-4F25-B672-9FCBBF07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8C4-2EE9-48FE-897F-FFEA634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F84-07A2-4017-8B3E-34759B8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783-5BA5-4249-BBB3-DA2195B5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125-862C-4B9B-B5B9-18560250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1B7-00A6-4C7F-B628-5A9C2A0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0DB-4FE5-4A22-B0B7-C2DE04F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A51-B543-4EA4-AC5A-ED0AAB5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C55C-D5FD-4D77-9EC6-24D06D5C1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204920" cy="12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6172200"/>
          <a:ext cx="1403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172200"/>
                    <a:ext cx="140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itishcouncil.org/learning-uk-middle-east-school-partnership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e partnership in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work together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int curriculu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Use ICT for communication at al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taff meet regularly to plan and review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hort staff exchanges and work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rrespondence/e-mail exchanges betwee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Exchange and joint development of teach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 ex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Some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llaboration between schools in Europe using ICT to carry out a pedagogically relevan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Build on existing link or develop new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teacher-based, student-based or a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subject-specific or cross-cur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Use secure discussion forums and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Project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Teenage tourist guide to students’ hom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Exploring who we are and what it means to be European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Values in school life and school cele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omparison/sharing of local free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rop circle challenge: collaborative Maths on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www.etwinning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Good practic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ccess to e-twinn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uropean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men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School Partnerships – curriculu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 partnership with at least two other eligible countries fo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Funding for materials and travel/sub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Mobility for teachers, heads an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ast-West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UK-Ireland schoo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nding for preparatory meetings and curriculum pro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Project-related field trips for pup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Job shadowing for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rther information: www.britishcouncil.org/it/schoolpartnerships-irelan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Global School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Specific activities organised by the British Council and funded by DFID to promote the Global Dimen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Reciprocal Visit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Global Curriculum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lus opportunities created by the Regional EES Strategy (DFID fu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Sans"/>
              </a:rPr>
              <a:t>Connecting class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Small groups of schools from the UK partner with schools from two different countries in sub-Saharan Af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Purpose of lin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intercultural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to increase knowledge and understanding of each other's societies  </a:t>
            </a: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Relationships based on mutual understanding and genuine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Further details: http://www.britishcouncil.org/learning-connecting-classroom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Sans"/>
              </a:rPr>
              <a:t>Middle East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Links between schools in UK and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Bahrain, Iraq, Kuwait, Oman, Qatar, Saudi Arabia, United Arab Emirates and Y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Schools matched at partner-find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Further details and application form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http://www.britishcouncil.org/learning-uk-middle-east-school-partnership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EU programm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imary teachers language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Head teacher study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Aims of inter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improve pupils’ knowledge of other countries and cultures and to foster attitudes of openness and respect for diversity (ESDGC age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epare them to take part in the economic and social development of their own region and the wider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ovide a vehicle for raising achievement in key skills, such as communication and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ther opportunitie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ulbright teacher exchang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Job swap with an American col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mmonwealth teacher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1 year job swap with colleague in Commonwealth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prepare materials about self, family, school,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investigate and celebrate ‘Welsh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</a:rPr>
              <a:t>Value and celebrate cultural difference an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Insularity of som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Link with school abroad helps pupils discover other people,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oreigners’ become ‘friends’, partners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learn to value difference as something to b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</a:rPr>
              <a:t>enjoyed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 rather than a threat to be f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write for an audience, including for those whose first language is not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begin to learn simple words and phrases in foreig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Interperson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portunities to work in collaboration on join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Empathise with others’ experiences and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irect contact and communication with peers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teractive joint curriculum projects: allow pupils to express feelings and to respond to work produced by thei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benefit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New opportunities for 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Exploring new methods of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A wider perspective and professional refreshment that comes from visiting schools abroad and making new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exchange work with peers in school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in variou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exchanged based on exist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Teachers meet to plan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unding available: European Lifelong Learning Programme; British Council; ‘Global School’ partnerships; ‘Connecting Classrooms’; Middle East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ojects should lead to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joi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Materials received can be used as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learn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respond to what they receive in different form and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4:57:35Z</dcterms:created>
  <dc:creator>Brian George</dc:creator>
  <dc:description/>
  <dc:language>en-US</dc:language>
  <cp:lastModifiedBy>Brian George</cp:lastModifiedBy>
  <dcterms:modified xsi:type="dcterms:W3CDTF">2008-05-02T14:04:10Z</dcterms:modified>
  <cp:revision>14</cp:revision>
  <dc:subject/>
  <dc:title>The International Dimension </dc:title>
</cp:coreProperties>
</file>