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95B4-13CD-437A-BA1B-2C269EA7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1F3-4B59-4F9F-AA0D-6714E4A1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C821-BFFC-422C-8C01-D043E678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BEAA-D4AF-4CB0-8EC7-65ECD711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F1CF-C7AD-4330-93A9-3BCBABA2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6A49-4AAE-4474-A289-104785F2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1B8-DD1E-4687-BA06-53FCF637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CD87-8D77-4E18-AAB1-04B5182D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1B84-A761-4ADE-9DF5-8CFC5066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752-5E49-466D-85CB-6BE37FFE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C76C-CB84-4B42-998C-395E08FA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6330-2CF5-4CED-98C3-67FFE362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4FF9-3D48-4475-B4E9-ED7513A9D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3800" y="609480"/>
            <a:ext cx="1204920" cy="12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380880" y="6172200"/>
          <a:ext cx="14036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6172200"/>
                    <a:ext cx="14036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britishcouncil.org/learning-uk-middle-east-school-partnerships.htm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International school partner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An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Sans"/>
              </a:rPr>
              <a:t>The partnership in 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upils work together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joint curriculu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Use ICT for communication at all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Staff meet regularly to plan and review 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Short staff exchanges and work shad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Correspondence/e-mail exchanges between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Exchange and joint development of teaching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upil exchang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5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0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International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Some program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Sans"/>
              </a:rPr>
              <a:t>E-Twi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collaboration between schools in Europe using ICT to carry out a pedagogically relevant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Build on existing link or develop new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Can be teacher-based, student-based or a comb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Can be subject-specific or cross-curr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Use secure discussion forums and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E-Twi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Project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Teenage tourist guide to students’ home tow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Exploring who we are and what it means to be European citiz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Values in school life and school celeb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Comparison/sharing of local free newsp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Crop circle challenge: collaborative Maths on the 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www.etwinning.n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Good practice gall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Access to e-twinning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Sans"/>
              </a:rPr>
              <a:t>European Program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Comeni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School Partnerships – curriculum fo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In partnership with at least two other eligible countries for 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Funding for materials and travel/subsis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Mobility for teachers, heads and pup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East-West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UK-Ireland school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Funding for preparatory meetings and curriculum proje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Project-related field trips for pup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Job shadowing for tea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Further information: www.britishcouncil.org/it/schoolpartnerships-ireland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The International Dimens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Global School Partner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Sans"/>
              </a:rPr>
              <a:t>Specific activities organised by the British Council and funded by DFID to promote the Global Dimen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Reciprocal Visit Gr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Global Curriculum Gr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lus opportunities created by the Regional EES Strategy (DFID fun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New program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Sans"/>
              </a:rPr>
              <a:t>Connecting classro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illSans"/>
                <a:ea typeface="Arial Unicode MS"/>
              </a:rPr>
              <a:t>Small groups of schools from the UK partner with schools from two different countries in sub-Saharan Af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illSans"/>
                <a:ea typeface="Arial Unicode MS"/>
              </a:rPr>
              <a:t>Purpose of lin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illSans"/>
                <a:ea typeface="Arial Unicode MS"/>
              </a:rPr>
              <a:t>intercultural dia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illSans"/>
                <a:ea typeface="Arial Unicode MS"/>
              </a:rPr>
              <a:t>to increase knowledge and understanding of each other's societies  </a:t>
            </a:r>
            <a:r>
              <a:rPr b="0" lang="en" sz="2000" spc="-1" strike="noStrike">
                <a:solidFill>
                  <a:srgbClr val="000000"/>
                </a:solidFill>
                <a:latin typeface="GillSans"/>
                <a:ea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illSans"/>
              </a:rPr>
              <a:t>Relationships based on mutual understanding and genuine 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illSans"/>
              </a:rPr>
              <a:t>Further details: http://www.britishcouncil.org/learning-connecting-classroom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New program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illSans"/>
              </a:rPr>
              <a:t>Middle East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Links between schools in UK and </a:t>
            </a: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Bahrain, Iraq, Kuwait, Oman, Qatar, Saudi Arabia, United Arab Emirates and Y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Schools matched at partner-finding semin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Further details and application forms: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GillSans"/>
                <a:hlinkClick r:id="rId1"/>
              </a:rPr>
              <a:t>http://www.britishcouncil.org/learning-uk-middle-east-school-partnerships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The International Dimens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Profession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Sans"/>
              </a:rPr>
              <a:t>EU programm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rimary teachers languages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Head teacher study vis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Aims of internatio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school partner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o improve pupils’ knowledge of other countries and cultures and to foster attitudes of openness and respect for diversity (ESDGC agen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o prepare them to take part in the economic and social development of their own region and the wider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o provide a vehicle for raising achievement in key skills, such as communication and 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6720" y="26676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Other opportunities for teach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200240"/>
            <a:ext cx="7772400" cy="56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Fulbright teacher exchange progra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Job swap with an American collea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Open to classroom tea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ravel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Deadline: 30 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Commonwealth teacher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1 year job swap with colleague in Commonwealth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Open to classroom tea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ravel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Deadline: 30 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developing pupils’ attitu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and val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Self-resp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Pupils prepare materials about self, family, school,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Pupils investigate and celebrate ‘Welshnes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developing pupils’ attitude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val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illSans"/>
              </a:rPr>
              <a:t>Value and celebrate cultural difference and d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Insularity of some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Link with school abroad helps pupils discover other people,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Foreigners’ become ‘friends’, partners in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Pupils learn to value difference as something to be 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</a:rPr>
              <a:t>enjoyed</a:t>
            </a: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 rather than a threat to be fe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developing pupils’ ski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Communication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Pupils write for an audience, including for those whose first language is not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Pupils begin to learn simple words and phrases in foreign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Interpersonal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Opportunities to work in collaboration on joint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developing pupils’ ski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Empathise with others’ experiences and feel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Direct contact and communication with peers in other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Interactive joint curriculum projects: allow pupils to express feelings and to respond to work produced by their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benefits for teach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New opportunities for profession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Exploring new methods of teaching an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A wider perspective and professional refreshment that comes from visiting schools abroad and making new cont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‘</a:t>
            </a: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International Curriculum links’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What?  H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Pupils exchange work with peers in schools ab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Work in various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Work exchanged based on existing curr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Teachers meet to plan and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Funding available: European Lifelong Learning Programme; British Council; ‘Global School’ partnerships; ‘Connecting Classrooms’; Middle East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‘</a:t>
            </a: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International Curriculum links’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What?  H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rojects should lead to </a:t>
            </a: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joint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Materials received can be used as </a:t>
            </a: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learning re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upils respond to what they receive in different form and me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4:57:35Z</dcterms:created>
  <dc:creator>Brian George</dc:creator>
  <dc:description/>
  <dc:language>en-US</dc:language>
  <cp:lastModifiedBy>Brian George</cp:lastModifiedBy>
  <dcterms:modified xsi:type="dcterms:W3CDTF">2008-05-02T14:04:10Z</dcterms:modified>
  <cp:revision>14</cp:revision>
  <dc:subject/>
  <dc:title>The International Dimension </dc:title>
</cp:coreProperties>
</file>