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9FE96-FECB-4CA8-BB43-59889D82C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877CF-D72D-4DC0-BAA6-62991160C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8166E-3E30-4DC4-97FA-FE644D3DC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57661-6494-46DE-8FAE-571A91E49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0C5E1-9790-44FC-A481-457A08992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3AD81-BAB4-4027-98B1-339D21412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FCC40-F3FE-4053-BB7A-362F3CAA4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18EA1-AF8B-408C-9C1E-2CB7E5A7A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8129C-0B84-4882-BB1D-4E9267778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E7CC9-9876-4931-BC0A-5C4D000D1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A9C67-9564-4B97-AF2E-94ECF4130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92066-601E-4CC1-8F13-1C4E387B8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B3E54-5003-46A1-BF1A-42B53651E3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543800" y="609480"/>
            <a:ext cx="1204920" cy="12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" name=""/>
          <p:cNvGraphicFramePr/>
          <p:nvPr/>
        </p:nvGraphicFramePr>
        <p:xfrm>
          <a:off x="380880" y="6172200"/>
          <a:ext cx="1403640" cy="468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6172200"/>
                    <a:ext cx="1403640" cy="4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britishcouncil.org/learning-uk-middle-east-school-partnerships.htm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Sans"/>
              </a:rPr>
              <a:t>International school partnershi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Sans"/>
              </a:rPr>
              <a:t>An 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illSans"/>
              </a:rPr>
              <a:t>The partnership in practi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62120" y="838080"/>
            <a:ext cx="77724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ill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Sans"/>
              </a:rPr>
              <a:t>Pupils work together 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San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Sans"/>
              </a:rPr>
              <a:t>joint curriculum pro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ill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Sans"/>
              </a:rPr>
              <a:t>Use ICT for communication at all lev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ill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Sans"/>
              </a:rPr>
              <a:t>Staff meet regularly to plan and review progr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ill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Sans"/>
              </a:rPr>
              <a:t>Short staff exchanges and work shadow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ill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Sans"/>
              </a:rPr>
              <a:t>Correspondence/e-mail exchanges between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ill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Sans"/>
              </a:rPr>
              <a:t>Exchange and joint development of teaching materi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ill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Sans"/>
              </a:rPr>
              <a:t>Pupil exchang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5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20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25" dur="5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30" dur="5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35" dur="5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40" dur="500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45" dur="500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50" dur="500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Sans"/>
              </a:rPr>
              <a:t>International proje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Sans"/>
              </a:rPr>
              <a:t>Some program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Sans"/>
              </a:rPr>
              <a:t>E-Twin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Sans"/>
              </a:rPr>
              <a:t>collaboration between schools in Europe using ICT to carry out a pedagogically relevant activ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Sans"/>
              </a:rPr>
              <a:t>Build on existing link or develop new 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Sans"/>
              </a:rPr>
              <a:t>Can be teacher-based, student-based or a combin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Sans"/>
              </a:rPr>
              <a:t>Can be subject-specific or cross-curricul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Sans"/>
              </a:rPr>
              <a:t>Use secure discussion forums and e-ma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3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8" dur="5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3" dur="5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8" dur="500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3" dur="50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Sans"/>
              </a:rPr>
              <a:t>E-Twin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Sans"/>
              </a:rPr>
              <a:t>Project examp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Sans"/>
              </a:rPr>
              <a:t>Teenage tourist guide to students’ home tow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Sans"/>
              </a:rPr>
              <a:t>Exploring who we are and what it means to be European citize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Sans"/>
              </a:rPr>
              <a:t>Values in school life and school celeb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Sans"/>
              </a:rPr>
              <a:t>Comparison/sharing of local free newspap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Sans"/>
              </a:rPr>
              <a:t>Crop circle challenge: collaborative Maths on the 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Sans"/>
              </a:rPr>
              <a:t>www.etwinning.ne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Sans"/>
              </a:rPr>
              <a:t>Adv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Sans"/>
              </a:rPr>
              <a:t>Good practice galle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Sans"/>
              </a:rPr>
              <a:t>Access to e-twinning t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6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1" dur="5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6" dur="5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1" dur="500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6" dur="500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1" dur="500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6" dur="500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1" dur="500"/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6" dur="500"/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1" dur="500"/>
                                        <p:tgtEl>
                                          <p:spTgt spid="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Sans"/>
              </a:rPr>
              <a:t>European Programm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Sans"/>
              </a:rPr>
              <a:t>Comeniu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Sans"/>
              </a:rPr>
              <a:t>School Partnerships – curriculum foc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Sans"/>
              </a:rPr>
              <a:t>In partnership with at least two other eligible countries for 2 yea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Sans"/>
              </a:rPr>
              <a:t>Funding for materials and travel/subsist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Sans"/>
              </a:rPr>
              <a:t>Mobility for teachers, heads and pupi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Sans"/>
              </a:rPr>
              <a:t>East-West program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ill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illSans"/>
              </a:rPr>
              <a:t>UK-Ireland school lin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ill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illSans"/>
              </a:rPr>
              <a:t>Funding for preparatory meetings and curriculum project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ill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illSans"/>
              </a:rPr>
              <a:t>Project-related field trips for pupi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ill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illSans"/>
              </a:rPr>
              <a:t>Job shadowing for teach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ill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illSans"/>
              </a:rPr>
              <a:t>Further information: www.britishcouncil.org/it/schoolpartnerships-ireland.ht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Sans"/>
              </a:rPr>
              <a:t>The International Dimension: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GillSans"/>
              </a:rPr>
              <a:t>Global School Partnershi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GillSans"/>
              </a:rPr>
              <a:t>Specific activities organised by the British Council and funded by DFID to promote the Global Dimens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ill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Sans"/>
              </a:rPr>
              <a:t>Reciprocal Visit Gra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ill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Sans"/>
              </a:rPr>
              <a:t>Global Curriculum Gra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ill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Sans"/>
              </a:rPr>
              <a:t>plus opportunities created by the Regional EES Strategy (DFID funde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Sans"/>
              </a:rPr>
              <a:t>New programm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ill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GillSans"/>
              </a:rPr>
              <a:t>Connecting classroo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ill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000000"/>
                </a:solidFill>
                <a:latin typeface="GillSans"/>
                <a:ea typeface="Arial Unicode MS"/>
              </a:rPr>
              <a:t>Small groups of schools from the UK partner with schools from two different countries in sub-Saharan Afric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ill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000000"/>
                </a:solidFill>
                <a:latin typeface="GillSans"/>
                <a:ea typeface="Arial Unicode MS"/>
              </a:rPr>
              <a:t>Purpose of link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Gill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000000"/>
                </a:solidFill>
                <a:latin typeface="GillSans"/>
                <a:ea typeface="Arial Unicode MS"/>
              </a:rPr>
              <a:t>intercultural dialog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Gill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000000"/>
                </a:solidFill>
                <a:latin typeface="GillSans"/>
                <a:ea typeface="Arial Unicode MS"/>
              </a:rPr>
              <a:t>to increase knowledge and understanding of each other's societies  </a:t>
            </a:r>
            <a:r>
              <a:rPr b="0" lang="en" sz="2000" spc="-1" strike="noStrike">
                <a:solidFill>
                  <a:srgbClr val="000000"/>
                </a:solidFill>
                <a:latin typeface="GillSans"/>
                <a:ea typeface="Arial Unicode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ill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000000"/>
                </a:solidFill>
                <a:latin typeface="GillSans"/>
              </a:rPr>
              <a:t>Relationships based on mutual understanding and genuine e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ill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000000"/>
                </a:solidFill>
                <a:latin typeface="GillSans"/>
              </a:rPr>
              <a:t>Further details: http://www.britishcouncil.org/learning-connecting-classrooms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4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9" dur="5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4" dur="5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7" dur="500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0" dur="500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5" dur="500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0" dur="500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Sans"/>
              </a:rPr>
              <a:t>New programm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ill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GillSans"/>
              </a:rPr>
              <a:t>Middle East Lin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Sans"/>
              </a:rPr>
              <a:t>Links between schools in UK and </a:t>
            </a:r>
            <a:r>
              <a:rPr b="0" lang="en-GB" sz="2800" spc="-1" strike="noStrike">
                <a:solidFill>
                  <a:srgbClr val="000000"/>
                </a:solidFill>
                <a:latin typeface="GillSans"/>
              </a:rPr>
              <a:t>Bahrain, Iraq, Kuwait, Oman, Qatar, Saudi Arabia, United Arab Emirates and Yem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Sans"/>
              </a:rPr>
              <a:t>Schools matched at partner-finding semina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Sans"/>
              </a:rPr>
              <a:t>Further details and application forms: </a:t>
            </a:r>
            <a:r>
              <a:rPr b="0" lang="en-GB" sz="2800" spc="-1" strike="noStrike" u="sng">
                <a:solidFill>
                  <a:srgbClr val="ccccff"/>
                </a:solidFill>
                <a:uFillTx/>
                <a:latin typeface="GillSans"/>
                <a:hlinkClick r:id="rId1"/>
              </a:rPr>
              <a:t>http://www.britishcouncil.org/learning-uk-middle-east-school-partnerships.ht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2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7" dur="5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2" dur="5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7" dur="500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Sans"/>
              </a:rPr>
              <a:t>The International Dimens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GillSans"/>
              </a:rPr>
              <a:t>Professional develop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GillSans"/>
              </a:rPr>
              <a:t>EU programmes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ill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Sans"/>
              </a:rPr>
              <a:t>Cour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ill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Sans"/>
              </a:rPr>
              <a:t>Job shadow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ill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Sans"/>
              </a:rPr>
              <a:t>Primary teachers languages trai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ill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Sans"/>
              </a:rPr>
              <a:t>Head teacher study visi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Sans"/>
              </a:rPr>
              <a:t>Aims of international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GillSans"/>
              </a:rPr>
              <a:t>school partnershi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ill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Sans"/>
              </a:rPr>
              <a:t>To improve pupils’ knowledge of other countries and cultures and to foster attitudes of openness and respect for diversity (ESDGC agend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ill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Sans"/>
              </a:rPr>
              <a:t>To prepare them to take part in the economic and social development of their own region and the wider wor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ill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Sans"/>
              </a:rPr>
              <a:t>To provide a vehicle for raising achievement in key skills, such as communication and I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66720" y="266760"/>
            <a:ext cx="7772400" cy="8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Sans"/>
              </a:rPr>
              <a:t>Other opportunities for teach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04880" y="1200240"/>
            <a:ext cx="7772400" cy="56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ill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Sans"/>
              </a:rPr>
              <a:t>Fulbright teacher exchange program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Sans"/>
              </a:rPr>
              <a:t>Job swap with an American colleag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Sans"/>
              </a:rPr>
              <a:t>Open to classroom teach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Sans"/>
              </a:rPr>
              <a:t>Travel co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Sans"/>
              </a:rPr>
              <a:t>Deadline: 30 Novemb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ill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Sans"/>
              </a:rPr>
              <a:t>Commonwealth teacher exchan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Sans"/>
              </a:rPr>
              <a:t>1 year job swap with colleague in Commonwealth coun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Sans"/>
              </a:rPr>
              <a:t>Open to classroom teach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Sans"/>
              </a:rPr>
              <a:t>Travel co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Sans"/>
              </a:rPr>
              <a:t>Deadline: 30 Novemb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Sans"/>
              </a:rPr>
              <a:t>The International Dimension: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GillSans"/>
              </a:rPr>
              <a:t>developing pupils’ attitude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GillSans"/>
              </a:rPr>
              <a:t>and valu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ill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GillSans"/>
              </a:rPr>
              <a:t>Self-resp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ill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Sans"/>
              </a:rPr>
              <a:t>Pupils prepare materials about self, family, school, commun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ill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Sans"/>
              </a:rPr>
              <a:t>Pupils investigate and celebrate ‘Welshness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Sans"/>
              </a:rPr>
              <a:t>The International Dimension: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GillSans"/>
              </a:rPr>
              <a:t>developing pupils’ attitudes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GillSans"/>
              </a:rPr>
              <a:t>valu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ill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GillSans"/>
              </a:rPr>
              <a:t>Value and celebrate cultural difference and d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ill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Sans"/>
              </a:rPr>
              <a:t>Insularity of some commun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ill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Sans"/>
              </a:rPr>
              <a:t>Link with school abroad helps pupils discover other people, cul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ill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Sans"/>
              </a:rPr>
              <a:t>‘</a:t>
            </a:r>
            <a:r>
              <a:rPr b="0" lang="en-US" sz="2400" spc="-1" strike="noStrike">
                <a:solidFill>
                  <a:srgbClr val="000000"/>
                </a:solidFill>
                <a:latin typeface="GillSans"/>
              </a:rPr>
              <a:t>Foreigners’ become ‘friends’, partners in lear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ill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Sans"/>
              </a:rPr>
              <a:t>Pupils learn to value difference as something to be </a:t>
            </a:r>
            <a:r>
              <a:rPr b="1" lang="en-US" sz="2400" spc="-1" strike="noStrike">
                <a:solidFill>
                  <a:srgbClr val="000000"/>
                </a:solidFill>
                <a:latin typeface="GillSans"/>
              </a:rPr>
              <a:t>enjoyed</a:t>
            </a:r>
            <a:r>
              <a:rPr b="0" lang="en-US" sz="2400" spc="-1" strike="noStrike">
                <a:solidFill>
                  <a:srgbClr val="000000"/>
                </a:solidFill>
                <a:latin typeface="GillSans"/>
              </a:rPr>
              <a:t> rather than a threat to be fea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53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58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3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8" dur="5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3" dur="5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Sans"/>
              </a:rPr>
              <a:t>The International Dimension: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GillSans"/>
              </a:rPr>
              <a:t>developing pupils’ skil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ill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GillSans"/>
              </a:rPr>
              <a:t>Communication skil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ill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Sans"/>
              </a:rPr>
              <a:t>Pupils write for an audience, including for those whose first language is not Engli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ill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Sans"/>
              </a:rPr>
              <a:t>Pupils begin to learn simple words and phrases in foreign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ill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GillSans"/>
              </a:rPr>
              <a:t>Interpersonal skil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ill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Sans"/>
              </a:rPr>
              <a:t>Opportunities to work in collaboration on joint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0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5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0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5" dur="5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0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5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Sans"/>
              </a:rPr>
              <a:t>The International Dimension: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GillSans"/>
              </a:rPr>
              <a:t>developing pupils’ skil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ill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GillSans"/>
              </a:rPr>
              <a:t>Empathise with others’ experiences and feel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ill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Sans"/>
              </a:rPr>
              <a:t>Direct contact and communication with peers in other count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ill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Sans"/>
              </a:rPr>
              <a:t>Interactive joint curriculum projects: allow pupils to express feelings and to respond to work produced by their partn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17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22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27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Sans"/>
              </a:rPr>
              <a:t>The International Dimension: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GillSans"/>
              </a:rPr>
              <a:t>benefits for teach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ill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illSans"/>
              </a:rPr>
              <a:t>New opportunities for professional develop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ill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illSans"/>
              </a:rPr>
              <a:t>Exploring new methods of teaching and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ill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illSans"/>
              </a:rPr>
              <a:t>A wider perspective and professional refreshment that comes from visiting schools abroad and making new conta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Sans"/>
              </a:rPr>
              <a:t>‘</a:t>
            </a:r>
            <a:r>
              <a:rPr b="0" lang="en-US" sz="3600" spc="-1" strike="noStrike">
                <a:solidFill>
                  <a:srgbClr val="000000"/>
                </a:solidFill>
                <a:latin typeface="GillSans"/>
              </a:rPr>
              <a:t>International Curriculum links’: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GillSans"/>
              </a:rPr>
              <a:t>What?  How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ill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Sans"/>
              </a:rPr>
              <a:t>Pupils exchange work with peers in schools abro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ill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Sans"/>
              </a:rPr>
              <a:t>Work in various med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ill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Sans"/>
              </a:rPr>
              <a:t>Work exchanged based on existing curricul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ill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Sans"/>
              </a:rPr>
              <a:t>Teachers meet to plan and re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ill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Sans"/>
              </a:rPr>
              <a:t>Funding available: European Lifelong Learning Programme; British Council; ‘Global School’ partnerships; ‘Connecting Classrooms’; Middle East lin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57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62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67" dur="5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72" dur="5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77" dur="5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Sans"/>
              </a:rPr>
              <a:t>‘</a:t>
            </a:r>
            <a:r>
              <a:rPr b="0" lang="en-US" sz="3600" spc="-1" strike="noStrike">
                <a:solidFill>
                  <a:srgbClr val="000000"/>
                </a:solidFill>
                <a:latin typeface="GillSans"/>
              </a:rPr>
              <a:t>International Curriculum links’: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GillSans"/>
              </a:rPr>
              <a:t>What?  How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ill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Sans"/>
              </a:rPr>
              <a:t>Projects should lead to </a:t>
            </a:r>
            <a:r>
              <a:rPr b="1" i="1" lang="en-US" sz="3200" spc="-1" strike="noStrike">
                <a:solidFill>
                  <a:srgbClr val="000000"/>
                </a:solidFill>
                <a:latin typeface="GillSans"/>
              </a:rPr>
              <a:t>joint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ill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Sans"/>
              </a:rPr>
              <a:t>Materials received can be used as </a:t>
            </a:r>
            <a:r>
              <a:rPr b="1" i="1" lang="en-US" sz="3200" spc="-1" strike="noStrike">
                <a:solidFill>
                  <a:srgbClr val="000000"/>
                </a:solidFill>
                <a:latin typeface="GillSans"/>
              </a:rPr>
              <a:t>learning resour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ill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Sans"/>
              </a:rPr>
              <a:t>Pupils respond to what they receive in different form and med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92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97" dur="5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02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02T14:57:35Z</dcterms:created>
  <dc:creator>Brian George</dc:creator>
  <dc:description/>
  <dc:language>en-US</dc:language>
  <cp:lastModifiedBy>Brian George</cp:lastModifiedBy>
  <dcterms:modified xsi:type="dcterms:W3CDTF">2008-05-02T14:04:10Z</dcterms:modified>
  <cp:revision>14</cp:revision>
  <dc:subject/>
  <dc:title>The International Dimension </dc:title>
</cp:coreProperties>
</file>