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1BD-43E9-43A5-89C3-BFF8E296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0CF-B2A9-4875-B65D-E8B1074D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FF0-9D07-4909-8E6B-935C69F6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CA3-B884-4226-AF07-5FDF6F08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0B4-D3B2-47BB-BB75-18BB47A7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EB7-9CE4-4F22-AA9B-43F9C465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BF9-CC94-42DA-AD88-77A18D35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0F7-8C51-4AAF-8E98-FDDEB31A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20F-2AA5-487F-97DB-FAAC21C0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BC4-80D1-4FD1-BAC9-1535CFFD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BB9-10DC-42E1-BE62-78C9AE52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7DE-76DC-45D8-8CC1-24CB0D88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5BDD-7000-47D0-AF43-5706595E0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1204920" cy="12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380880" y="6172200"/>
          <a:ext cx="14036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172200"/>
                    <a:ext cx="1403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ritishcouncil.org/learning-uk-middle-east-school-partnerships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Sans"/>
              </a:rPr>
              <a:t>The partnership in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work together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int curriculu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Use ICT for communication at all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taff meet regularly to plan and review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Short staff exchanges and work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rrespondence/e-mail exchanges betwee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Exchange and joint development of teaching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 exchan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International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Some program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llaboration between schools in Europe using ICT to carry out a pedagogically relevant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Build on existing link or develop new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teacher-based, student-based or a 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an be subject-specific or cross-curr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Use secure discussion forums and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-Twi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Project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Teenage tourist guide to students’ home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Exploring who we are and what it means to be European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Values in school life and school celeb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omparison/sharing of local free news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Crop circle challenge: collaborative Maths on the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www.etwinning.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Good practice gall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Sans"/>
              </a:rPr>
              <a:t>Access to e-twinn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Sans"/>
              </a:rPr>
              <a:t>European Program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Comen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School Partnerships – curriculum 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 partnership with at least two other eligible countries fo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Funding for materials and travel/subs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Mobility for teachers, heads and pup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East-West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UK-Ireland school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nding for preparatory meetings and curriculum pro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Project-related field trips for pup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Job shadowing for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Further information: www.britishcouncil.org/it/schoolpartnerships-irelan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Global School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Specific activities organised by the British Council and funded by DFID to promote the Global Dimen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Reciprocal Visit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Global Curriculum G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lus opportunities created by the Regional EES Strategy (DFID fun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Sans"/>
              </a:rPr>
              <a:t>Connecting classro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Small groups of schools from the UK partner with schools from two different countries in sub-Saharan Af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  <a:ea typeface="Arial Unicode MS"/>
              </a:rPr>
              <a:t>Purpose of lin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intercultural dia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to increase knowledge and understanding of each other's societies  </a:t>
            </a:r>
            <a:r>
              <a:rPr b="0" lang="en" sz="2000" spc="-1" strike="noStrike">
                <a:solidFill>
                  <a:srgbClr val="000000"/>
                </a:solidFill>
                <a:latin typeface="GillSan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Relationships based on mutual understanding and genuine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GillSans"/>
              </a:rPr>
              <a:t>Further details: http://www.britishcouncil.org/learning-connecting-classroom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New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illSans"/>
              </a:rPr>
              <a:t>Middle East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Links between schools in UK and </a:t>
            </a: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Bahrain, Iraq, Kuwait, Oman, Qatar, Saudi Arabia, United Arab Emirates and Y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Schools matched at partner-finding semin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Sans"/>
              </a:rPr>
              <a:t>Further details and application forms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GillSans"/>
                <a:hlinkClick r:id="rId1"/>
              </a:rPr>
              <a:t>http://www.britishcouncil.org/learning-uk-middle-east-school-partnerships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The International Dimen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Sans"/>
              </a:rPr>
              <a:t>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Sans"/>
              </a:rPr>
              <a:t>EU programm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imary teachers languages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Head teacher study vi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Aims of interna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school partne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improve pupils’ knowledge of other countries and cultures and to foster attitudes of openness and respect for diversity (ESDGC age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epare them to take part in the economic and social development of their own region and the wider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o provide a vehicle for raising achievement in key skills, such as communication and 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6720" y="26676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Other opportunitie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Fulbright teacher exchange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Job swap with an American collea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Commonwealth teacher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1 year job swap with colleague in Commonwealth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en to classroom 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Trave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eadline: 30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and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Self-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prepare materials about self, family, school,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investigate and celebrate ‘Welshnes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attitude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illSans"/>
              </a:rPr>
              <a:t>Value and celebrate cultural difference and 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Insularity of some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Link with school abroad helps pupils discover other people,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oreigners’ become ‘friends’, partners in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learn to value difference as something to be </a:t>
            </a:r>
            <a:r>
              <a:rPr b="1" lang="en-US" sz="2400" spc="-1" strike="noStrike">
                <a:solidFill>
                  <a:srgbClr val="000000"/>
                </a:solidFill>
                <a:latin typeface="GillSans"/>
              </a:rPr>
              <a:t>enjoyed</a:t>
            </a: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 rather than a threat to be fe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Communication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write for an audience, including for those whose first language is not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Pupils begin to learn simple words and phrases in foreig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Interperson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Opportunities to work in collaboration on joint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developing pupils’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Empathise with others’ experiences and fee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Direct contact and communication with peers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Sans"/>
              </a:rPr>
              <a:t>Interactive joint curriculum projects: allow pupils to express feelings and to respond to work produced by their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The International Dimens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benefits for 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New opportunities for professio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Exploring new methods of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Sans"/>
              </a:rPr>
              <a:t>A wider perspective and professional refreshment that comes from visiting schools abroad and making new cont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Pupils exchange work with peers in schools a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in variou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Work exchanged based on existing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Teachers meet to plan an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Sans"/>
              </a:rPr>
              <a:t>Funding available: European Lifelong Learning Programme; British Council; ‘Global School’ partnerships; ‘Connecting Classrooms’; Middle East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Sans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International Curriculum links’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What? 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rojects should lead to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joint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Materials received can be used as </a:t>
            </a:r>
            <a:r>
              <a:rPr b="1" i="1" lang="en-US" sz="3200" spc="-1" strike="noStrike">
                <a:solidFill>
                  <a:srgbClr val="000000"/>
                </a:solidFill>
                <a:latin typeface="GillSans"/>
              </a:rPr>
              <a:t>learning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Sans"/>
              </a:rPr>
              <a:t>Pupils respond to what they receive in different form and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4:57:35Z</dcterms:created>
  <dc:creator>Brian George</dc:creator>
  <dc:description/>
  <dc:language>en-US</dc:language>
  <cp:lastModifiedBy>Brian George</cp:lastModifiedBy>
  <dcterms:modified xsi:type="dcterms:W3CDTF">2008-05-02T14:04:10Z</dcterms:modified>
  <cp:revision>14</cp:revision>
  <dc:subject/>
  <dc:title>The International Dimension </dc:title>
</cp:coreProperties>
</file>