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3259-DECD-42B3-B962-EE178AAC01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464C-7C03-4439-99D0-72910B8418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530F-FA8F-4603-BCF3-5D43DA6F97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A7E-E7E2-4731-8BB8-364CFAF3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AA3-715F-4602-A4C9-F6F1CF76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4FE-F4B0-40D2-9A49-7383B294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FF8-9BE5-409D-AB8B-028B1EBD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70F-9844-45F4-9A1C-907D1A1A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243-8798-4E90-AB46-83118107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02A-A9CB-47C2-B739-9E996599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FDF-8D3B-406C-AA24-A6E01F26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AAF-58EE-4BEB-8FB3-6395815A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5B5-A9E6-415F-9312-527AE718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D90-634F-4ED4-B42C-601EA0B3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265-3ACF-46FA-8FCF-04FEE97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062A-70EA-4CE0-BE69-20E46E661E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1C60-3EC2-452D-A299-50A0D3BE64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71720" y="21420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Facilitators Self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1214280"/>
          <a:ext cx="5857920" cy="612648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star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paths of enquiry were follow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did it finish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will you follow it up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rk question/ thought of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as for next sess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Badge"/>
          <p:cNvPicPr/>
          <p:nvPr/>
        </p:nvPicPr>
        <p:blipFill>
          <a:blip r:embed="rId1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Badge"/>
          <p:cNvPicPr/>
          <p:nvPr/>
        </p:nvPicPr>
        <p:blipFill>
          <a:blip r:embed="rId2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85880" y="21420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community of Enqui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28760" y="1071720"/>
          <a:ext cx="6000480" cy="674352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Poin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tion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see links and connections between question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ich part of the enquiry went well/ not so well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the children follow trains of thought and build on idea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aviour and relationships with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pils who did not particip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was the quality of questions asked by the pupil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Twynyrodyn Community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Miss N Car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Badge"/>
          <p:cNvPicPr/>
          <p:nvPr/>
        </p:nvPicPr>
        <p:blipFill>
          <a:blip r:embed="rId1"/>
          <a:stretch/>
        </p:blipFill>
        <p:spPr>
          <a:xfrm>
            <a:off x="0" y="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dge"/>
          <p:cNvPicPr/>
          <p:nvPr/>
        </p:nvPicPr>
        <p:blipFill>
          <a:blip r:embed="rId2"/>
          <a:stretch/>
        </p:blipFill>
        <p:spPr>
          <a:xfrm>
            <a:off x="6124680" y="0"/>
            <a:ext cx="733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0:31:20Z</dcterms:created>
  <dc:creator>Nadine</dc:creator>
  <dc:description/>
  <dc:language>en-US</dc:language>
  <cp:lastModifiedBy>Nadine</cp:lastModifiedBy>
  <dcterms:modified xsi:type="dcterms:W3CDTF">2009-02-24T20:43:25Z</dcterms:modified>
  <cp:revision>2</cp:revision>
  <dc:subject/>
  <dc:title>Slide 1</dc:title>
</cp:coreProperties>
</file>