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81D0-DAF9-4CA9-AF9D-A5EBDCB53C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F795-BFAC-4EF1-A868-9C4B5DA0788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20F9-08F5-4B18-B34C-D683094B93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0A2F-8D0F-417A-8C97-4B059D79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C593-01B1-43E8-88A9-83C68884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686C-D057-48B1-B6C5-A585A7BD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A60B-DF1C-41F9-9CFB-634F2DC8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3D4B-D90D-4D95-8BBF-7264F9E6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8A09-9B0C-462B-AF3C-446D7FE8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1A5E-BD72-479F-BCFD-43641D36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FC55-B7B5-4AD9-9DBE-160C6175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CA15-61BE-4127-A5EA-AB76BC9B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178A-05A5-4256-8DEE-3493B6F2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4F0-DAD2-47F0-9FC6-78C91E72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E20F-32F0-47D2-B7C8-57353714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CB73-2481-4742-8815-E71D137651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12F4-DF92-4618-810E-50A2FB1C77E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071720" y="214200"/>
            <a:ext cx="45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Facilitators Self Evalu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28760" y="1214280"/>
          <a:ext cx="5857920" cy="6126480"/>
        </p:xfrm>
        <a:graphic>
          <a:graphicData uri="http://schemas.openxmlformats.org/drawingml/2006/table">
            <a:tbl>
              <a:tblPr/>
              <a:tblGrid>
                <a:gridCol w="2928960"/>
                <a:gridCol w="2928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ey Points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valuatio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re did it start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paths of enquiry were follow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re did it finish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will you follow it up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work question/ thought of 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as for next sess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0" name="Footer Placeholder 5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Miss N Carl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Badge"/>
          <p:cNvPicPr/>
          <p:nvPr/>
        </p:nvPicPr>
        <p:blipFill>
          <a:blip r:embed="rId1"/>
          <a:stretch/>
        </p:blipFill>
        <p:spPr>
          <a:xfrm>
            <a:off x="6124680" y="0"/>
            <a:ext cx="733320" cy="782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Badge"/>
          <p:cNvPicPr/>
          <p:nvPr/>
        </p:nvPicPr>
        <p:blipFill>
          <a:blip r:embed="rId2"/>
          <a:stretch/>
        </p:blipFill>
        <p:spPr>
          <a:xfrm>
            <a:off x="0" y="0"/>
            <a:ext cx="73332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785880" y="214200"/>
            <a:ext cx="55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he community of Enqui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28760" y="1071720"/>
          <a:ext cx="6000480" cy="6743520"/>
        </p:xfrm>
        <a:graphic>
          <a:graphicData uri="http://schemas.openxmlformats.org/drawingml/2006/table">
            <a:tbl>
              <a:tblPr/>
              <a:tblGrid>
                <a:gridCol w="3000240"/>
                <a:gridCol w="3000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ey Point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valuation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the children see links and connections between question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part of the enquiry went well/ not so well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the children follow trains of thought and build on ideas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haviour and relationships within the 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pils who did not particip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was the quality of questions asked by the pupil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5" name="Footer Placeholder 3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Miss N Carl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8" descr="Badge"/>
          <p:cNvPicPr/>
          <p:nvPr/>
        </p:nvPicPr>
        <p:blipFill>
          <a:blip r:embed="rId1"/>
          <a:stretch/>
        </p:blipFill>
        <p:spPr>
          <a:xfrm>
            <a:off x="0" y="0"/>
            <a:ext cx="733320" cy="782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Badge"/>
          <p:cNvPicPr/>
          <p:nvPr/>
        </p:nvPicPr>
        <p:blipFill>
          <a:blip r:embed="rId2"/>
          <a:stretch/>
        </p:blipFill>
        <p:spPr>
          <a:xfrm>
            <a:off x="6124680" y="0"/>
            <a:ext cx="73332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20:31:20Z</dcterms:created>
  <dc:creator>Nadine</dc:creator>
  <dc:description/>
  <dc:language>en-US</dc:language>
  <cp:lastModifiedBy>Nadine</cp:lastModifiedBy>
  <dcterms:modified xsi:type="dcterms:W3CDTF">2009-02-24T20:43:25Z</dcterms:modified>
  <cp:revision>2</cp:revision>
  <dc:subject/>
  <dc:title>Slide 1</dc:title>
</cp:coreProperties>
</file>