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D86E-8DBA-4201-B577-AD1F5386C0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F7E1-B765-406C-A9BB-D2733E9D15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DCA-5669-4770-8269-01ECD8E163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685-55D4-4526-890C-B6F2A833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43A-F874-43AE-9CBB-79DAA88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1DC-7703-4924-A318-E08755A5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884-209F-45CB-9B71-EB79DB59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285-D127-47DE-B869-9DE9690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BB3-E066-433C-8537-D91A5726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652-BCD7-4434-AE2F-4175D60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6D7-2CFC-4F28-986C-37EC8A2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DB4-889C-4E3E-877A-06F9C1D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B65-2719-4A54-AAF0-5C7AFEF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E6B-AFC0-4572-9383-86CC7D5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8AC-CE61-4D3D-B704-E57BC22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9B0C-5207-4ABA-8E7C-79433D4B1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A16-DDCC-4C55-98B2-1CF64A2437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1720" y="214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Facilitators Sel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214280"/>
          <a:ext cx="5857920" cy="61264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star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paths of enquiry were follow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finish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will you follow it 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 question/ thought of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s for next s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adge"/>
          <p:cNvPicPr/>
          <p:nvPr/>
        </p:nvPicPr>
        <p:blipFill>
          <a:blip r:embed="rId1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adge"/>
          <p:cNvPicPr/>
          <p:nvPr/>
        </p:nvPicPr>
        <p:blipFill>
          <a:blip r:embed="rId2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5880" y="214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community of Enqui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760" y="1071720"/>
          <a:ext cx="6000480" cy="674352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see links and connections between ques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part of the enquiry went well/ not so well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follow trains of thought and build on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ur and relationships with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pils who did not particip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was the quality of questions asked by the pupil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Badge"/>
          <p:cNvPicPr/>
          <p:nvPr/>
        </p:nvPicPr>
        <p:blipFill>
          <a:blip r:embed="rId1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dge"/>
          <p:cNvPicPr/>
          <p:nvPr/>
        </p:nvPicPr>
        <p:blipFill>
          <a:blip r:embed="rId2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0:31:20Z</dcterms:created>
  <dc:creator>Nadine</dc:creator>
  <dc:description/>
  <dc:language>en-US</dc:language>
  <cp:lastModifiedBy>Nadine</cp:lastModifiedBy>
  <dcterms:modified xsi:type="dcterms:W3CDTF">2009-02-24T20:43:25Z</dcterms:modified>
  <cp:revision>2</cp:revision>
  <dc:subject/>
  <dc:title>Slide 1</dc:title>
</cp:coreProperties>
</file>