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DBE7-D659-4057-BFAA-4A8B76BF12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854D-5A1A-4309-829C-66640A4C1F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4D85-87CA-4314-A16B-A34D42BD45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620-D9C6-44C3-8435-07551EA2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C71-7787-4707-BD70-81E7C5A2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E77-D930-4D72-BF2A-F209FF66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A0C-8286-410A-8E5A-27A79E86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561-A072-41F3-A5E8-D4A14CF7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FA5-0220-4C9F-BDE1-83EAFCE0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1B63-A83D-492E-B4D4-EC0E635C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A09-2DB3-4999-B702-ED1F2843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AC4-5EC0-4B8C-B22E-3CE73606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100-71F9-404A-A9B4-E7437A89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1AD-4AA6-4A81-80F3-DAAC620D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102-B277-4CA4-9964-C37B38C3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2BE6-0A76-428C-B6A8-8C48365C70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01EF-2ABB-44DA-95D4-2CA4D59CF6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1720" y="21420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Facilitators Self Eval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8760" y="1214280"/>
          <a:ext cx="5857920" cy="612648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start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paths of enquiry were follow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finish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will you follow it up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work question/ thought of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as for next sess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Footer Placeholder 5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Badge"/>
          <p:cNvPicPr/>
          <p:nvPr/>
        </p:nvPicPr>
        <p:blipFill>
          <a:blip r:embed="rId1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adge"/>
          <p:cNvPicPr/>
          <p:nvPr/>
        </p:nvPicPr>
        <p:blipFill>
          <a:blip r:embed="rId2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85880" y="21420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community of Enqui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28760" y="1071720"/>
          <a:ext cx="6000480" cy="6743520"/>
        </p:xfrm>
        <a:graphic>
          <a:graphicData uri="http://schemas.openxmlformats.org/drawingml/2006/table">
            <a:tbl>
              <a:tblPr/>
              <a:tblGrid>
                <a:gridCol w="3000240"/>
                <a:gridCol w="3000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see links and connections between question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part of the enquiry went well/ not so well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follow trains of thought and build on idea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ur and relationships within the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pils who did not particip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was the quality of questions asked by the pupil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Footer Placeholder 3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Badge"/>
          <p:cNvPicPr/>
          <p:nvPr/>
        </p:nvPicPr>
        <p:blipFill>
          <a:blip r:embed="rId1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adge"/>
          <p:cNvPicPr/>
          <p:nvPr/>
        </p:nvPicPr>
        <p:blipFill>
          <a:blip r:embed="rId2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0:31:20Z</dcterms:created>
  <dc:creator>Nadine</dc:creator>
  <dc:description/>
  <dc:language>en-US</dc:language>
  <cp:lastModifiedBy>Nadine</cp:lastModifiedBy>
  <dcterms:modified xsi:type="dcterms:W3CDTF">2009-02-24T20:43:25Z</dcterms:modified>
  <cp:revision>2</cp:revision>
  <dc:subject/>
  <dc:title>Slide 1</dc:title>
</cp:coreProperties>
</file>