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39E-D729-4D44-B12F-43FEE7BD4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D590-84A9-471A-8AEC-75639E433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1D79-E766-4B32-9418-AC4AA18EB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AE26-A352-4FED-AFE9-315D8A135B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16D2-83EE-48C5-A249-7B7B4B488E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B820-4DDA-4A5B-8FFE-7B48F5BF4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7555-5D36-43E3-A266-73AA5736F4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05B3-2D3D-4AEF-B556-5F0FD1859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2838-8E1F-4C43-9477-98C954E7C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2ABE-DBD9-4971-8962-31822846D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375-17E4-4E0E-AAE3-2E73805CC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22BC-B4D9-42C2-BDA1-0294DFC39D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B189-7EC1-4C8E-B34F-712A03E20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49F-DE97-45F3-B895-4C92EA78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E05-AEA5-480E-8184-46DC8E12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DE9-E17C-4912-896B-C797CFB3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AC6-DFEB-4A6A-8C81-E6405712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93A-DA79-4096-B821-7032CDBA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922-8277-437D-9817-E07B7F13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21A-9085-43EE-8712-69A280AB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1AF-3EFD-4E13-BAEB-A83755A3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5E7-CEBE-4A9F-8313-F3243248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58E-3D59-4993-93DC-5459CC5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5F9-8155-4D15-91DE-C1210DE1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1B1-5302-4419-A359-82371121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3267-07E8-48A6-A97D-3C3FBC5577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177336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everyone a chance to tal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4363910000[1]"/>
          <p:cNvPicPr/>
          <p:nvPr/>
        </p:nvPicPr>
        <p:blipFill>
          <a:blip r:embed="rId1"/>
          <a:stretch/>
        </p:blipFill>
        <p:spPr>
          <a:xfrm>
            <a:off x="6084720" y="3860640"/>
            <a:ext cx="1828800" cy="1244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00000" y="184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reasons for our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MCj04315120000[1]"/>
          <p:cNvPicPr/>
          <p:nvPr/>
        </p:nvPicPr>
        <p:blipFill>
          <a:blip r:embed="rId1"/>
          <a:stretch/>
        </p:blipFill>
        <p:spPr>
          <a:xfrm>
            <a:off x="6372360" y="3789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213372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sk others to clarify mean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Cj02381920000[1]"/>
          <p:cNvPicPr/>
          <p:nvPr/>
        </p:nvPicPr>
        <p:blipFill>
          <a:blip r:embed="rId1"/>
          <a:stretch/>
        </p:blipFill>
        <p:spPr>
          <a:xfrm>
            <a:off x="6732720" y="2997360"/>
            <a:ext cx="1444320" cy="2212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91628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spected each others 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Pj04386340000[1]"/>
          <p:cNvPicPr/>
          <p:nvPr/>
        </p:nvPicPr>
        <p:blipFill>
          <a:blip r:embed="rId1"/>
          <a:stretch/>
        </p:blipFill>
        <p:spPr>
          <a:xfrm>
            <a:off x="4500720" y="3933720"/>
            <a:ext cx="3271680" cy="1271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55640" y="206064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connected our question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4344110000[1]"/>
          <p:cNvPicPr/>
          <p:nvPr/>
        </p:nvPicPr>
        <p:blipFill>
          <a:blip r:embed="rId1"/>
          <a:stretch/>
        </p:blipFill>
        <p:spPr>
          <a:xfrm>
            <a:off x="6659640" y="350028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628640"/>
            <a:ext cx="77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spoke clearly to each other and used our h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MPj04393840000[1]"/>
          <p:cNvPicPr/>
          <p:nvPr/>
        </p:nvPicPr>
        <p:blipFill>
          <a:blip r:embed="rId1"/>
          <a:stretch/>
        </p:blipFill>
        <p:spPr>
          <a:xfrm>
            <a:off x="6300720" y="4365720"/>
            <a:ext cx="2192400" cy="1208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5280" y="2205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followed on from each others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MPj0437324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1709640" cy="1366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177336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flected our thoughts in our boo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Pj04393930000[1]"/>
          <p:cNvPicPr/>
          <p:nvPr/>
        </p:nvPicPr>
        <p:blipFill>
          <a:blip r:embed="rId1"/>
          <a:stretch/>
        </p:blipFill>
        <p:spPr>
          <a:xfrm>
            <a:off x="6156360" y="4076640"/>
            <a:ext cx="213660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5280" y="21337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followed all the rul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Cj02953420000[1]"/>
          <p:cNvPicPr/>
          <p:nvPr/>
        </p:nvPicPr>
        <p:blipFill>
          <a:blip r:embed="rId1"/>
          <a:stretch/>
        </p:blipFill>
        <p:spPr>
          <a:xfrm>
            <a:off x="6732720" y="3573360"/>
            <a:ext cx="1600200" cy="1790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71640" y="184464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used open ended Ques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Cj04348590000[1]"/>
          <p:cNvPicPr/>
          <p:nvPr/>
        </p:nvPicPr>
        <p:blipFill>
          <a:blip r:embed="rId1"/>
          <a:stretch/>
        </p:blipFill>
        <p:spPr>
          <a:xfrm>
            <a:off x="6227640" y="3645000"/>
            <a:ext cx="1714680" cy="1930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4360" y="141300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worked together to sort out any problems within the group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Pj04384750000[1]"/>
          <p:cNvPicPr/>
          <p:nvPr/>
        </p:nvPicPr>
        <p:blipFill>
          <a:blip r:embed="rId1"/>
          <a:stretch/>
        </p:blipFill>
        <p:spPr>
          <a:xfrm>
            <a:off x="6012000" y="4437000"/>
            <a:ext cx="2460600" cy="107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55:08Z</dcterms:created>
  <dc:creator>carlessn</dc:creator>
  <dc:description/>
  <dc:language>en-US</dc:language>
  <cp:lastModifiedBy>Nadine</cp:lastModifiedBy>
  <dcterms:modified xsi:type="dcterms:W3CDTF">2009-02-21T14:45:32Z</dcterms:modified>
  <cp:revision>2</cp:revision>
  <dc:subject/>
  <dc:title>Slide 1</dc:title>
</cp:coreProperties>
</file>