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D1E8-25D7-47D9-9250-2AE3CF543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8D3E-8F8E-4EEB-B8AC-7433C58F77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23C2-2906-42B9-844F-3F947A270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195D-5F61-4593-91FC-A7A6B53FC2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055D-2612-4DC7-88CB-449609A46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1509-4DCF-4945-8C31-5FB143E90C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ABDA-B30B-464D-B9E9-D9476A6401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A678-FB33-4879-A069-CC5F398A79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F3CD-C166-4463-9FA8-F5A4479BA0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E1EE-4424-44CC-A5E1-1B14A096D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41D3-DA2A-4722-8FC4-4EEE6E84C5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496F-1A2C-4706-BF49-3981119B36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3F06-2A2F-4DCB-9A60-26C4D66F0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707-9E23-4CC0-859E-0955242B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E904-68E8-4F35-BF2F-B943C0AA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60A-E851-4C4F-B3AF-A6A2EED4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AAD-10B2-4DBA-B2B3-FEEC8096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57A-3D2C-4B71-B735-56541DF4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F55-F1B0-442B-8091-E1B87F55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001-3710-428C-956C-7C7BB909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DBA-044E-4B28-982D-56DB7D2A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17D-7447-4A72-B25F-0AC09408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868-F5A1-48EF-860F-4DA0FB27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C86-4A5C-4339-918D-A5B13F8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522-FBF0-4A78-8170-DCF49E9A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E8B4-B895-40F7-A1B4-57D6E9BBA2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177336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everyone a chance to tal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4363910000[1]"/>
          <p:cNvPicPr/>
          <p:nvPr/>
        </p:nvPicPr>
        <p:blipFill>
          <a:blip r:embed="rId1"/>
          <a:stretch/>
        </p:blipFill>
        <p:spPr>
          <a:xfrm>
            <a:off x="6084720" y="3860640"/>
            <a:ext cx="1828800" cy="1244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00000" y="184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gave reasons for our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MCj04315120000[1]"/>
          <p:cNvPicPr/>
          <p:nvPr/>
        </p:nvPicPr>
        <p:blipFill>
          <a:blip r:embed="rId1"/>
          <a:stretch/>
        </p:blipFill>
        <p:spPr>
          <a:xfrm>
            <a:off x="6372360" y="3789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213372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sk others to clarify mean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Cj02381920000[1]"/>
          <p:cNvPicPr/>
          <p:nvPr/>
        </p:nvPicPr>
        <p:blipFill>
          <a:blip r:embed="rId1"/>
          <a:stretch/>
        </p:blipFill>
        <p:spPr>
          <a:xfrm>
            <a:off x="6732720" y="2997360"/>
            <a:ext cx="1444320" cy="2212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91628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spected each others 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MPj04386340000[1]"/>
          <p:cNvPicPr/>
          <p:nvPr/>
        </p:nvPicPr>
        <p:blipFill>
          <a:blip r:embed="rId1"/>
          <a:stretch/>
        </p:blipFill>
        <p:spPr>
          <a:xfrm>
            <a:off x="4500720" y="3933720"/>
            <a:ext cx="3271680" cy="1271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755640" y="206064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connected our question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MCj04344110000[1]"/>
          <p:cNvPicPr/>
          <p:nvPr/>
        </p:nvPicPr>
        <p:blipFill>
          <a:blip r:embed="rId1"/>
          <a:stretch/>
        </p:blipFill>
        <p:spPr>
          <a:xfrm>
            <a:off x="6659640" y="350028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628640"/>
            <a:ext cx="77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spoke clearly to each other and used our h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MPj04393840000[1]"/>
          <p:cNvPicPr/>
          <p:nvPr/>
        </p:nvPicPr>
        <p:blipFill>
          <a:blip r:embed="rId1"/>
          <a:stretch/>
        </p:blipFill>
        <p:spPr>
          <a:xfrm>
            <a:off x="6300720" y="4365720"/>
            <a:ext cx="2192400" cy="1208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5280" y="2205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 followed on from each others ide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MPj0437324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1709640" cy="1366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26920" y="177336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reflected our thoughts in our book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MPj04393930000[1]"/>
          <p:cNvPicPr/>
          <p:nvPr/>
        </p:nvPicPr>
        <p:blipFill>
          <a:blip r:embed="rId1"/>
          <a:stretch/>
        </p:blipFill>
        <p:spPr>
          <a:xfrm>
            <a:off x="6156360" y="4076640"/>
            <a:ext cx="213660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95280" y="213372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followed all the rul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Cj02953420000[1]"/>
          <p:cNvPicPr/>
          <p:nvPr/>
        </p:nvPicPr>
        <p:blipFill>
          <a:blip r:embed="rId1"/>
          <a:stretch/>
        </p:blipFill>
        <p:spPr>
          <a:xfrm>
            <a:off x="6732720" y="3573360"/>
            <a:ext cx="1600200" cy="1790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71640" y="184464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used open ended Ques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MCj04348590000[1]"/>
          <p:cNvPicPr/>
          <p:nvPr/>
        </p:nvPicPr>
        <p:blipFill>
          <a:blip r:embed="rId1"/>
          <a:stretch/>
        </p:blipFill>
        <p:spPr>
          <a:xfrm>
            <a:off x="6227640" y="3645000"/>
            <a:ext cx="1714680" cy="1930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4"/>
          <p:cNvSpPr/>
          <p:nvPr/>
        </p:nvSpPr>
        <p:spPr>
          <a:xfrm>
            <a:off x="250920" y="1197000"/>
            <a:ext cx="8713800" cy="453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4360" y="141300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e worked together to sort out any problems within the group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Pj04384750000[1]"/>
          <p:cNvPicPr/>
          <p:nvPr/>
        </p:nvPicPr>
        <p:blipFill>
          <a:blip r:embed="rId1"/>
          <a:stretch/>
        </p:blipFill>
        <p:spPr>
          <a:xfrm>
            <a:off x="6012000" y="4437000"/>
            <a:ext cx="2460600" cy="107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2286000" y="528624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wynyrodyn Community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55:08Z</dcterms:created>
  <dc:creator>carlessn</dc:creator>
  <dc:description/>
  <dc:language>en-US</dc:language>
  <cp:lastModifiedBy>Nadine</cp:lastModifiedBy>
  <dcterms:modified xsi:type="dcterms:W3CDTF">2009-02-21T14:45:32Z</dcterms:modified>
  <cp:revision>2</cp:revision>
  <dc:subject/>
  <dc:title>Slide 1</dc:title>
</cp:coreProperties>
</file>