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CFDD-3340-4C81-99DC-61284AC419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15E7-C8AC-434B-B234-7902E27B6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048A-1665-42FA-8F60-77B770E974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8E19-98D1-40EE-ABC1-42620A3DAD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93F6-67CD-4B6B-9B98-5A7E589BE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E878-4D61-40D2-B96C-FEB35A9BBF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6666-8086-4DC5-B38A-C324FBDF1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F136-C5FF-49B0-B25F-14135CD35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E75A-4E55-42A1-97AF-9939611A2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E5A8-0EA8-4771-AAB0-620B3AB3F7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99B5-0E96-4078-A76C-DEC1172B7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4CFB-91DF-48DD-8056-7E6C13E73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39E0-F606-43E5-AD06-8B054A4F61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6C2-41CE-4A72-9330-0582A8AC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690-14CD-4732-9E9A-7443DAB8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57B-84E6-4C45-BA4D-4780393E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B44-3365-4A21-ABC5-B334E90D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01F-69D5-4879-8EE5-A3B81479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66B-2EA7-4C0D-BB89-CB2D3428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95C-39F5-4AD1-A797-60EB697C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0F1-8EDD-49C7-A39C-0D61D73F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C0C-9631-4D01-8559-069104A5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1F5-B98F-475C-BCA6-E2369220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79A-D025-4543-A89E-4282189E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28A-846F-4BFC-B710-0E71B35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23F7-1B29-4AA9-98AF-099B773006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177336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everyone a chance to tal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4363910000[1]"/>
          <p:cNvPicPr/>
          <p:nvPr/>
        </p:nvPicPr>
        <p:blipFill>
          <a:blip r:embed="rId1"/>
          <a:stretch/>
        </p:blipFill>
        <p:spPr>
          <a:xfrm>
            <a:off x="6084720" y="3860640"/>
            <a:ext cx="1828800" cy="1244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00000" y="184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reasons for our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MCj04315120000[1]"/>
          <p:cNvPicPr/>
          <p:nvPr/>
        </p:nvPicPr>
        <p:blipFill>
          <a:blip r:embed="rId1"/>
          <a:stretch/>
        </p:blipFill>
        <p:spPr>
          <a:xfrm>
            <a:off x="6372360" y="3789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213372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sk others to clarify mean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Cj02381920000[1]"/>
          <p:cNvPicPr/>
          <p:nvPr/>
        </p:nvPicPr>
        <p:blipFill>
          <a:blip r:embed="rId1"/>
          <a:stretch/>
        </p:blipFill>
        <p:spPr>
          <a:xfrm>
            <a:off x="6732720" y="2997360"/>
            <a:ext cx="1444320" cy="2212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91628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spected each others 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Pj04386340000[1]"/>
          <p:cNvPicPr/>
          <p:nvPr/>
        </p:nvPicPr>
        <p:blipFill>
          <a:blip r:embed="rId1"/>
          <a:stretch/>
        </p:blipFill>
        <p:spPr>
          <a:xfrm>
            <a:off x="4500720" y="3933720"/>
            <a:ext cx="3271680" cy="1271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55640" y="206064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connected our question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4344110000[1]"/>
          <p:cNvPicPr/>
          <p:nvPr/>
        </p:nvPicPr>
        <p:blipFill>
          <a:blip r:embed="rId1"/>
          <a:stretch/>
        </p:blipFill>
        <p:spPr>
          <a:xfrm>
            <a:off x="6659640" y="350028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628640"/>
            <a:ext cx="77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spoke clearly to each other and used our h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MPj04393840000[1]"/>
          <p:cNvPicPr/>
          <p:nvPr/>
        </p:nvPicPr>
        <p:blipFill>
          <a:blip r:embed="rId1"/>
          <a:stretch/>
        </p:blipFill>
        <p:spPr>
          <a:xfrm>
            <a:off x="6300720" y="4365720"/>
            <a:ext cx="2192400" cy="1208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5280" y="2205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followed on from each others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MPj0437324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1709640" cy="1366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177336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flected our thoughts in our boo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Pj04393930000[1]"/>
          <p:cNvPicPr/>
          <p:nvPr/>
        </p:nvPicPr>
        <p:blipFill>
          <a:blip r:embed="rId1"/>
          <a:stretch/>
        </p:blipFill>
        <p:spPr>
          <a:xfrm>
            <a:off x="6156360" y="4076640"/>
            <a:ext cx="213660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5280" y="21337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followed all the rul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Cj02953420000[1]"/>
          <p:cNvPicPr/>
          <p:nvPr/>
        </p:nvPicPr>
        <p:blipFill>
          <a:blip r:embed="rId1"/>
          <a:stretch/>
        </p:blipFill>
        <p:spPr>
          <a:xfrm>
            <a:off x="6732720" y="3573360"/>
            <a:ext cx="1600200" cy="1790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71640" y="184464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used open ended Ques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Cj04348590000[1]"/>
          <p:cNvPicPr/>
          <p:nvPr/>
        </p:nvPicPr>
        <p:blipFill>
          <a:blip r:embed="rId1"/>
          <a:stretch/>
        </p:blipFill>
        <p:spPr>
          <a:xfrm>
            <a:off x="6227640" y="3645000"/>
            <a:ext cx="1714680" cy="1930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4360" y="141300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worked together to sort out any problems within the group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Pj04384750000[1]"/>
          <p:cNvPicPr/>
          <p:nvPr/>
        </p:nvPicPr>
        <p:blipFill>
          <a:blip r:embed="rId1"/>
          <a:stretch/>
        </p:blipFill>
        <p:spPr>
          <a:xfrm>
            <a:off x="6012000" y="4437000"/>
            <a:ext cx="2460600" cy="107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55:08Z</dcterms:created>
  <dc:creator>carlessn</dc:creator>
  <dc:description/>
  <dc:language>en-US</dc:language>
  <cp:lastModifiedBy>Nadine</cp:lastModifiedBy>
  <dcterms:modified xsi:type="dcterms:W3CDTF">2009-02-21T14:45:32Z</dcterms:modified>
  <cp:revision>2</cp:revision>
  <dc:subject/>
  <dc:title>Slide 1</dc:title>
</cp:coreProperties>
</file>