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B5CD-E043-4402-BAE9-9EECB1CF57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3991-D174-4787-9AFB-D8BA01DEB4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FD3B-48E3-42D2-990D-C69484D291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C51-567A-40F0-B074-CD4DEA36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BF1-6C36-4857-8C60-0B90255B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4C9-85A0-45EC-90C5-209459A3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4FE-5CF0-49BF-94CF-5136924C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B19-F49E-43A9-BEC2-542A9391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3EA-3677-4678-B1FA-3573DA5B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8F5-E794-44BC-A1DE-6E203B1F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35C-AA6E-4E45-9354-8BF96767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43C-7A46-4F8E-80AE-0C0C4E32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4C8-D9B9-45E7-8F96-0529151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23F-ED68-4A82-A034-76B1B69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733-9351-4145-B47D-3B710EC9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E7D1-5458-4E29-BE29-C3321F704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C20E-0F41-4558-9E30-28D3797FBB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1720" y="2142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Facilitators Self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1214280"/>
          <a:ext cx="5857920" cy="612648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star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paths of enquiry were follow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finish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will you follow it up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rk question/ thought of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as for next sess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Badge"/>
          <p:cNvPicPr/>
          <p:nvPr/>
        </p:nvPicPr>
        <p:blipFill>
          <a:blip r:embed="rId1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adge"/>
          <p:cNvPicPr/>
          <p:nvPr/>
        </p:nvPicPr>
        <p:blipFill>
          <a:blip r:embed="rId2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85880" y="21420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community of Enqui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28760" y="1071720"/>
          <a:ext cx="6000480" cy="674352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see links and connections between question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part of the enquiry went well/ not so well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follow trains of thought and build on idea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ur and relationships with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pils who did not particip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was the quality of questions asked by the pupil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Badge"/>
          <p:cNvPicPr/>
          <p:nvPr/>
        </p:nvPicPr>
        <p:blipFill>
          <a:blip r:embed="rId1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dge"/>
          <p:cNvPicPr/>
          <p:nvPr/>
        </p:nvPicPr>
        <p:blipFill>
          <a:blip r:embed="rId2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0:31:20Z</dcterms:created>
  <dc:creator>Nadine</dc:creator>
  <dc:description/>
  <dc:language>en-US</dc:language>
  <cp:lastModifiedBy>Nadine</cp:lastModifiedBy>
  <dcterms:modified xsi:type="dcterms:W3CDTF">2009-02-24T20:43:25Z</dcterms:modified>
  <cp:revision>2</cp:revision>
  <dc:subject/>
  <dc:title>Slide 1</dc:title>
</cp:coreProperties>
</file>