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67568-B10B-44A9-BEAB-90B8AFDE640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DF1F9-A7EB-4AFA-AC15-1A901972262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6407A-D39F-49D2-8272-F850648F3B1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1365-AA7B-4364-8A8B-29D0B6843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A16C-CB1E-4EEE-9EFA-7DB47713A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0BF4-A591-441C-81F8-AA0F84153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4013-429B-4016-A954-6B3749C52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D367-4D13-4984-929E-1C38BCD8F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C613-6684-4638-9A6A-39AA5B66F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466C-49B9-4E7E-A8BF-799BAEE7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1C21-6049-4D53-A1DD-5C72109B0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7E44-EE1C-400B-9D7A-C2878A90B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81C8-CA8F-4F33-89B5-A53ACAA5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7B49-0CB0-413F-8D77-14C1EE54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A65C-6E0F-4332-A6D8-419F7B9E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D98A3-815C-4757-9A66-88C137232D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Twynyrodyn Community Schoo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B0E6C-0BBB-4B5B-967A-B49A0A693B4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1071720" y="214200"/>
            <a:ext cx="45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Facilitators Self Evalu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28760" y="1214280"/>
          <a:ext cx="5857920" cy="6126480"/>
        </p:xfrm>
        <a:graphic>
          <a:graphicData uri="http://schemas.openxmlformats.org/drawingml/2006/table">
            <a:tbl>
              <a:tblPr/>
              <a:tblGrid>
                <a:gridCol w="2928960"/>
                <a:gridCol w="29289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ey Points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valuation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re did it start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paths of enquiry were followed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re did it finish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 will you follow it up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mework question/ thought of we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as for next sess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0" name="Footer Placeholder 5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Twynyrodyn Community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Miss N Carles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8" descr="Badge"/>
          <p:cNvPicPr/>
          <p:nvPr/>
        </p:nvPicPr>
        <p:blipFill>
          <a:blip r:embed="rId1"/>
          <a:stretch/>
        </p:blipFill>
        <p:spPr>
          <a:xfrm>
            <a:off x="6124680" y="0"/>
            <a:ext cx="733320" cy="782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Badge"/>
          <p:cNvPicPr/>
          <p:nvPr/>
        </p:nvPicPr>
        <p:blipFill>
          <a:blip r:embed="rId2"/>
          <a:stretch/>
        </p:blipFill>
        <p:spPr>
          <a:xfrm>
            <a:off x="0" y="0"/>
            <a:ext cx="733320" cy="7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785880" y="214200"/>
            <a:ext cx="55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The community of Enquir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28760" y="1071720"/>
          <a:ext cx="6000480" cy="6743520"/>
        </p:xfrm>
        <a:graphic>
          <a:graphicData uri="http://schemas.openxmlformats.org/drawingml/2006/table">
            <a:tbl>
              <a:tblPr/>
              <a:tblGrid>
                <a:gridCol w="3000240"/>
                <a:gridCol w="3000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ey Point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valuation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d the children see links and connections between question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ich part of the enquiry went well/ not so well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d the children follow trains of thought and build on ideas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haviour and relationships within the commun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pils who did not particip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was the quality of questions asked by the pupil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9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5" name="Footer Placeholder 3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Twynyrodyn Community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Miss N Carles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8" descr="Badge"/>
          <p:cNvPicPr/>
          <p:nvPr/>
        </p:nvPicPr>
        <p:blipFill>
          <a:blip r:embed="rId1"/>
          <a:stretch/>
        </p:blipFill>
        <p:spPr>
          <a:xfrm>
            <a:off x="0" y="0"/>
            <a:ext cx="733320" cy="782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Badge"/>
          <p:cNvPicPr/>
          <p:nvPr/>
        </p:nvPicPr>
        <p:blipFill>
          <a:blip r:embed="rId2"/>
          <a:stretch/>
        </p:blipFill>
        <p:spPr>
          <a:xfrm>
            <a:off x="6124680" y="0"/>
            <a:ext cx="733320" cy="7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20:31:20Z</dcterms:created>
  <dc:creator>Nadine</dc:creator>
  <dc:description/>
  <dc:language>en-US</dc:language>
  <cp:lastModifiedBy>Nadine</cp:lastModifiedBy>
  <dcterms:modified xsi:type="dcterms:W3CDTF">2009-02-24T20:43:25Z</dcterms:modified>
  <cp:revision>2</cp:revision>
  <dc:subject/>
  <dc:title>Slide 1</dc:title>
</cp:coreProperties>
</file>