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jpeg" ContentType="image/jpeg"/>
  <Override PartName="/ppt/media/image10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EB02-FDE3-4A1D-ABB4-A7F3AA3ADD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5335-BB67-481E-AE24-3E702FC1BA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00C2-6B31-4BCE-BE88-0CE6CDE645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EAC4-5067-4FB0-AC86-EA0CCC5140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C2C2-CB97-4EC0-8E98-4B9ABB012E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A59A-B0B3-4769-A64E-258898F0EE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F355-E973-4BA9-AC8E-02AE501380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51FB-49A0-4F1B-9E30-D311A37170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8A71-C642-472C-9F1E-E40F653D85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EE0E-3B24-45ED-816C-5F6AAADB79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712B-B38B-474D-9D4F-31AFA2D4D1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D1D9-98A1-4957-B1BD-F3793BE824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ECF3-2D5E-479B-B2D4-D9E66DE19B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C42-2617-4875-8C2B-A7A9F352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6FCA-0C39-488E-B330-08248BD9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22EE-E819-4F3D-AD04-7B7D58E8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8B48-4B1B-47C5-8680-5C6A68F3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30D-BDFC-4F4B-BE0F-6F1CA811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5CF-3076-4756-9266-9211AC6B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E338-CAC3-4531-BEC9-823D419B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D8F1-9F4B-479C-82FB-7F190569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CB2-5110-4ED8-A93B-578BABD7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F462-85FE-418E-9A2D-71FD4744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E31A-EF93-4DB8-890F-94E6F295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3FD-0DC6-4E29-8007-BE6D12B6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29D2-E14A-461E-BB4A-6895C0D25D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11280" y="177336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gave everyone a chance to tal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MCj04363910000[1]"/>
          <p:cNvPicPr/>
          <p:nvPr/>
        </p:nvPicPr>
        <p:blipFill>
          <a:blip r:embed="rId1"/>
          <a:stretch/>
        </p:blipFill>
        <p:spPr>
          <a:xfrm>
            <a:off x="6084720" y="3860640"/>
            <a:ext cx="1828800" cy="1244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5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00000" y="184464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gave reasons for our idea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MCj04315120000[1]"/>
          <p:cNvPicPr/>
          <p:nvPr/>
        </p:nvPicPr>
        <p:blipFill>
          <a:blip r:embed="rId1"/>
          <a:stretch/>
        </p:blipFill>
        <p:spPr>
          <a:xfrm>
            <a:off x="6372360" y="3789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11280" y="213372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sk others to clarify mean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Cj02381920000[1]"/>
          <p:cNvPicPr/>
          <p:nvPr/>
        </p:nvPicPr>
        <p:blipFill>
          <a:blip r:embed="rId1"/>
          <a:stretch/>
        </p:blipFill>
        <p:spPr>
          <a:xfrm>
            <a:off x="6732720" y="2997360"/>
            <a:ext cx="1444320" cy="221292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916280"/>
            <a:ext cx="80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respected each others  idea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MPj04386340000[1]"/>
          <p:cNvPicPr/>
          <p:nvPr/>
        </p:nvPicPr>
        <p:blipFill>
          <a:blip r:embed="rId1"/>
          <a:stretch/>
        </p:blipFill>
        <p:spPr>
          <a:xfrm>
            <a:off x="4500720" y="3933720"/>
            <a:ext cx="3271680" cy="1271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55640" y="206064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connected our question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MCj04344110000[1]"/>
          <p:cNvPicPr/>
          <p:nvPr/>
        </p:nvPicPr>
        <p:blipFill>
          <a:blip r:embed="rId1"/>
          <a:stretch/>
        </p:blipFill>
        <p:spPr>
          <a:xfrm>
            <a:off x="6659640" y="3500280"/>
            <a:ext cx="1625400" cy="182880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26920" y="1628640"/>
            <a:ext cx="77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spoke clearly to each other and used our h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MPj04393840000[1]"/>
          <p:cNvPicPr/>
          <p:nvPr/>
        </p:nvPicPr>
        <p:blipFill>
          <a:blip r:embed="rId1"/>
          <a:stretch/>
        </p:blipFill>
        <p:spPr>
          <a:xfrm>
            <a:off x="6300720" y="4365720"/>
            <a:ext cx="2192400" cy="120816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95280" y="2205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 followed on from each others idea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MPj04373240000[1]"/>
          <p:cNvPicPr/>
          <p:nvPr/>
        </p:nvPicPr>
        <p:blipFill>
          <a:blip r:embed="rId1"/>
          <a:stretch/>
        </p:blipFill>
        <p:spPr>
          <a:xfrm>
            <a:off x="6443640" y="4076640"/>
            <a:ext cx="1709640" cy="1366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826920" y="177336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reflected our thoughts in our book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MPj04393930000[1]"/>
          <p:cNvPicPr/>
          <p:nvPr/>
        </p:nvPicPr>
        <p:blipFill>
          <a:blip r:embed="rId1"/>
          <a:stretch/>
        </p:blipFill>
        <p:spPr>
          <a:xfrm>
            <a:off x="6156360" y="4076640"/>
            <a:ext cx="2136600" cy="1224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95280" y="213372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followed all the rul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MCj02953420000[1]"/>
          <p:cNvPicPr/>
          <p:nvPr/>
        </p:nvPicPr>
        <p:blipFill>
          <a:blip r:embed="rId1"/>
          <a:stretch/>
        </p:blipFill>
        <p:spPr>
          <a:xfrm>
            <a:off x="6732720" y="3573360"/>
            <a:ext cx="1600200" cy="1790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971640" y="184464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used open ended Ques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MCj04348590000[1]"/>
          <p:cNvPicPr/>
          <p:nvPr/>
        </p:nvPicPr>
        <p:blipFill>
          <a:blip r:embed="rId1"/>
          <a:stretch/>
        </p:blipFill>
        <p:spPr>
          <a:xfrm>
            <a:off x="6227640" y="3645000"/>
            <a:ext cx="1714680" cy="193032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84360" y="141300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worked together to sort out any problems within the group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MPj04384750000[1]"/>
          <p:cNvPicPr/>
          <p:nvPr/>
        </p:nvPicPr>
        <p:blipFill>
          <a:blip r:embed="rId1"/>
          <a:stretch/>
        </p:blipFill>
        <p:spPr>
          <a:xfrm>
            <a:off x="6012000" y="4437000"/>
            <a:ext cx="2460600" cy="107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55:08Z</dcterms:created>
  <dc:creator>carlessn</dc:creator>
  <dc:description/>
  <dc:language>en-US</dc:language>
  <cp:lastModifiedBy>Nadine</cp:lastModifiedBy>
  <dcterms:modified xsi:type="dcterms:W3CDTF">2009-02-21T14:45:32Z</dcterms:modified>
  <cp:revision>2</cp:revision>
  <dc:subject/>
  <dc:title>Slide 1</dc:title>
</cp:coreProperties>
</file>