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F592-F9C2-4D5C-85F6-80350A097F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2BE6-FEBC-4EC6-8C05-1EF9E7FFD5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1516-583A-495F-A020-70402B56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C222-6FB1-46E2-9E9A-CB45DC6F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5FB-EAE6-4179-A8A8-1D4741B3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A7F-AA16-4B6B-A877-04DCCEF9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160-7955-4C32-A04D-72517DE9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90AB-8782-4839-8C18-4441E10E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4259-24C5-4C3C-AB02-CE4FF0BF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9A6-A6E3-4033-BD5C-1C5C63A2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5FB3-EDBC-4EEB-9553-099E04EA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D43-7BA7-469D-B319-9D0738DE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6233-BABE-4921-8CA5-C5E707A1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BCC-6B37-4285-9CB9-DBEB4203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wynyrodyn Communit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1EEA-971E-465F-80E1-144CB464A8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0158007"/>
          <p:cNvPicPr/>
          <p:nvPr/>
        </p:nvPicPr>
        <p:blipFill>
          <a:blip r:embed="rId1"/>
          <a:stretch/>
        </p:blipFill>
        <p:spPr>
          <a:xfrm>
            <a:off x="333360" y="0"/>
            <a:ext cx="6191280" cy="728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j0158007"/>
          <p:cNvPicPr/>
          <p:nvPr/>
        </p:nvPicPr>
        <p:blipFill>
          <a:blip r:embed="rId2"/>
          <a:stretch/>
        </p:blipFill>
        <p:spPr>
          <a:xfrm>
            <a:off x="285840" y="8001000"/>
            <a:ext cx="6191280" cy="728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404640" y="1187280"/>
            <a:ext cx="6120000" cy="65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ar Childr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y name is Philosophy Bear and I have heard about the thinking you do in your school. I was wondering whether you would let me join your class, as I love to thin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am always wondering about the world I live in. I am always thinking about questions such as what made the world? The great thing about this sort of thinking is that I can never be wrong as these sorts of questions have no right or wrong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have been told I ask too many questions but I think it is very important to ask questions and listen to ide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ease would you let me  join in your thinking less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ve F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ilosophy Bear x x 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MCAN01231_0000[1]"/>
          <p:cNvPicPr/>
          <p:nvPr/>
        </p:nvPicPr>
        <p:blipFill>
          <a:blip r:embed="rId3"/>
          <a:stretch/>
        </p:blipFill>
        <p:spPr>
          <a:xfrm>
            <a:off x="5000760" y="6572160"/>
            <a:ext cx="1536480" cy="15321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7"/>
          <p:cNvSpPr/>
          <p:nvPr/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wynyrodyn Communit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4:57:00Z</dcterms:created>
  <dc:creator>carlessn</dc:creator>
  <dc:description/>
  <dc:language>en-US</dc:language>
  <cp:lastModifiedBy>Nadine</cp:lastModifiedBy>
  <dcterms:modified xsi:type="dcterms:W3CDTF">2009-02-21T14:43:03Z</dcterms:modified>
  <cp:revision>2</cp:revision>
  <dc:subject/>
  <dc:title>Slide 1</dc:title>
</cp:coreProperties>
</file>