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B2C-B91F-43C0-B47C-7747265E7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CE2-F4C1-47E1-999C-F8A775926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CD6-5BC6-4B67-AB28-96798025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928-5385-46EA-B6A0-3D1DAE34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F5C-92D8-4A3B-8742-BD928B4F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8D0-0017-4B74-99E2-57E2A63F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D1E-4604-4252-BE67-A10BAAF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F90-6AD8-4734-944E-E735EEB9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838-46E1-43B2-BF7E-D84627E4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3DD-BF7D-475D-A368-3D55871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C39-C2F3-4BE5-A9BD-9EB66C7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9A63-7301-45AA-A243-AAB3C780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C6E-4556-4001-9F8B-ADDC2D2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382-A890-4835-9129-7598883E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51B0-F85E-4224-A271-6CA1BA4828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158007"/>
          <p:cNvPicPr/>
          <p:nvPr/>
        </p:nvPicPr>
        <p:blipFill>
          <a:blip r:embed="rId1"/>
          <a:stretch/>
        </p:blipFill>
        <p:spPr>
          <a:xfrm>
            <a:off x="333360" y="0"/>
            <a:ext cx="6191280" cy="7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j0158007"/>
          <p:cNvPicPr/>
          <p:nvPr/>
        </p:nvPicPr>
        <p:blipFill>
          <a:blip r:embed="rId2"/>
          <a:stretch/>
        </p:blipFill>
        <p:spPr>
          <a:xfrm>
            <a:off x="285840" y="8001000"/>
            <a:ext cx="6191280" cy="728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04640" y="1187280"/>
            <a:ext cx="6120000" cy="65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r Childr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y name is Philosophy Bear and I have heard about the thinking you do in your school. I was wondering whether you would let me join your class, as I love to thin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m always wondering about the world I live in. I am always thinking about questions such as what made the world? The great thing about this sort of thinking is that I can never be wrong as these sorts of questions have no right or wrong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have been told I ask too many questions but I think it is very important to ask questions and listen to id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ease would you let me  join in your thinking less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ve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ilosophy Bear x x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CAN01231_0000[1]"/>
          <p:cNvPicPr/>
          <p:nvPr/>
        </p:nvPicPr>
        <p:blipFill>
          <a:blip r:embed="rId3"/>
          <a:stretch/>
        </p:blipFill>
        <p:spPr>
          <a:xfrm>
            <a:off x="5000760" y="6572160"/>
            <a:ext cx="1536480" cy="15321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7"/>
          <p:cNvSpPr/>
          <p:nvPr/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wynyrodyn Communit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4:57:00Z</dcterms:created>
  <dc:creator>carlessn</dc:creator>
  <dc:description/>
  <dc:language>en-US</dc:language>
  <cp:lastModifiedBy>Nadine</cp:lastModifiedBy>
  <dcterms:modified xsi:type="dcterms:W3CDTF">2009-02-21T14:43:03Z</dcterms:modified>
  <cp:revision>2</cp:revision>
  <dc:subject/>
  <dc:title>Slide 1</dc:title>
</cp:coreProperties>
</file>