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A687-BD7B-463E-ADA9-8A1F20AC80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85B6-C429-44AD-9558-6513EC14A5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55B-2CA2-46AF-82BB-3A213955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5AA-BAFC-48AB-BFB2-480DCE81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F960-A1AD-41A7-9817-1E919EE0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D90C-E9AC-49D2-A712-5DF7FF88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C8FB-2A8E-4F1E-83AA-60C8F292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140-60AD-46DF-9264-CE8F7D50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05C-5432-409F-9B40-1B56D2FD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F60-9605-47B0-96CE-4EF40344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E53-FED2-45DB-BAAB-A5DDA634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8F60-BEDA-4238-858F-3AB9E7B1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C772-EE94-4175-B0BE-C775401E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C48-8589-47A0-945E-ACEB1C43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wynyrodyn Communit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0773-A4CE-4EAC-B638-172E8A3F0F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0158007"/>
          <p:cNvPicPr/>
          <p:nvPr/>
        </p:nvPicPr>
        <p:blipFill>
          <a:blip r:embed="rId1"/>
          <a:stretch/>
        </p:blipFill>
        <p:spPr>
          <a:xfrm>
            <a:off x="333360" y="0"/>
            <a:ext cx="6191280" cy="728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j0158007"/>
          <p:cNvPicPr/>
          <p:nvPr/>
        </p:nvPicPr>
        <p:blipFill>
          <a:blip r:embed="rId2"/>
          <a:stretch/>
        </p:blipFill>
        <p:spPr>
          <a:xfrm>
            <a:off x="285840" y="8001000"/>
            <a:ext cx="6191280" cy="728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404640" y="1187280"/>
            <a:ext cx="6120000" cy="65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ar Childr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y name is Philosophy Bear and I have heard about the thinking you do in your school. I was wondering whether you would let me join your class, as I love to thin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am always wondering about the world I live in. I am always thinking about questions such as what made the world? The great thing about this sort of thinking is that I can never be wrong as these sorts of questions have no right or wrong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have been told I ask too many questions but I think it is very important to ask questions and listen to ide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ease would you let me  join in your thinking less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ve F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ilosophy Bear x x 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MCAN01231_0000[1]"/>
          <p:cNvPicPr/>
          <p:nvPr/>
        </p:nvPicPr>
        <p:blipFill>
          <a:blip r:embed="rId3"/>
          <a:stretch/>
        </p:blipFill>
        <p:spPr>
          <a:xfrm>
            <a:off x="5000760" y="6572160"/>
            <a:ext cx="1536480" cy="15321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7"/>
          <p:cNvSpPr/>
          <p:nvPr/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wynyrodyn Communit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4:57:00Z</dcterms:created>
  <dc:creator>carlessn</dc:creator>
  <dc:description/>
  <dc:language>en-US</dc:language>
  <cp:lastModifiedBy>Nadine</cp:lastModifiedBy>
  <dcterms:modified xsi:type="dcterms:W3CDTF">2009-02-21T14:43:03Z</dcterms:modified>
  <cp:revision>2</cp:revision>
  <dc:subject/>
  <dc:title>Slide 1</dc:title>
</cp:coreProperties>
</file>