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46C1-4246-4407-A3C3-CB75F35595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B43F-01E1-4FE9-9E2A-920BEA719E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F0D-72A9-4776-A050-4C0CE31D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6E4-F0D0-4D9A-BEFD-98F15C3A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D75-DD18-41C3-82D5-02CBB45A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CF1-0E35-447D-9622-1757B484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637-C7F2-4467-B8B3-A58C5067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BB6-A0EC-40AC-8578-F7E534FA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F8A-4839-403E-B768-9425ED38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9CD-9FB9-40F1-A15F-BC4CF862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A26-2A94-497A-866D-987149E8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47A-F08B-47D6-8AFF-85DFABC4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896-B98C-44FD-B06F-38B60AB1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BE8-791D-4F33-A320-6BB7FCB7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wynyrodyn Communit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E3D6-DBF5-4782-BCBA-64B6C5C7FA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158007"/>
          <p:cNvPicPr/>
          <p:nvPr/>
        </p:nvPicPr>
        <p:blipFill>
          <a:blip r:embed="rId1"/>
          <a:stretch/>
        </p:blipFill>
        <p:spPr>
          <a:xfrm>
            <a:off x="333360" y="0"/>
            <a:ext cx="6191280" cy="72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j0158007"/>
          <p:cNvPicPr/>
          <p:nvPr/>
        </p:nvPicPr>
        <p:blipFill>
          <a:blip r:embed="rId2"/>
          <a:stretch/>
        </p:blipFill>
        <p:spPr>
          <a:xfrm>
            <a:off x="285840" y="8001000"/>
            <a:ext cx="6191280" cy="728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404640" y="1187280"/>
            <a:ext cx="6120000" cy="65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ar Childr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y name is Philosophy Bear and I have heard about the thinking you do in your school. I was wondering whether you would let me join your class, as I love to thin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am always wondering about the world I live in. I am always thinking about questions such as what made the world? The great thing about this sort of thinking is that I can never be wrong as these sorts of questions have no right or wrong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have been told I ask too many questions but I think it is very important to ask questions and listen to ide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would you let me  join in your thinking less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ve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ilosophy Bear x x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MCAN01231_0000[1]"/>
          <p:cNvPicPr/>
          <p:nvPr/>
        </p:nvPicPr>
        <p:blipFill>
          <a:blip r:embed="rId3"/>
          <a:stretch/>
        </p:blipFill>
        <p:spPr>
          <a:xfrm>
            <a:off x="5000760" y="6572160"/>
            <a:ext cx="1536480" cy="15321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7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wynyrodyn Communit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4:57:00Z</dcterms:created>
  <dc:creator>carlessn</dc:creator>
  <dc:description/>
  <dc:language>en-US</dc:language>
  <cp:lastModifiedBy>Nadine</cp:lastModifiedBy>
  <dcterms:modified xsi:type="dcterms:W3CDTF">2009-02-21T14:43:03Z</dcterms:modified>
  <cp:revision>2</cp:revision>
  <dc:subject/>
  <dc:title>Slide 1</dc:title>
</cp:coreProperties>
</file>