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E5AC-B7A9-4B86-A4D9-BB403FF5A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02BB-263B-40B1-A659-5DA554598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A51-1371-4DE0-A355-DAC72FD1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E42-AFD9-442A-93B8-7CA8A7AF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787-819F-4963-A7DC-85BA15A6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F58-14E4-4D6F-8BC0-9257E689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71A-6BF9-4F41-9AD9-4338D932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145-0074-467D-B1B4-AB89428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1FF-70B9-4102-B5B6-A0914A9D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7FF-6A5F-4AB9-B567-1AE239F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CE3-DEE2-45CB-90FD-D7431F5B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56D-E39E-421F-9472-C7634BEA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DF4-52A5-4366-8385-C81AB670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884-25F6-4DFC-8A68-01947DC0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17F-FA27-45AA-A66E-271E1C8E18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158007"/>
          <p:cNvPicPr/>
          <p:nvPr/>
        </p:nvPicPr>
        <p:blipFill>
          <a:blip r:embed="rId1"/>
          <a:stretch/>
        </p:blipFill>
        <p:spPr>
          <a:xfrm>
            <a:off x="333360" y="0"/>
            <a:ext cx="6191280" cy="7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158007"/>
          <p:cNvPicPr/>
          <p:nvPr/>
        </p:nvPicPr>
        <p:blipFill>
          <a:blip r:embed="rId2"/>
          <a:stretch/>
        </p:blipFill>
        <p:spPr>
          <a:xfrm>
            <a:off x="285840" y="8001000"/>
            <a:ext cx="6191280" cy="728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04640" y="1187280"/>
            <a:ext cx="612000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r Childr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y name is Philosophy Bear and I have heard about the thinking you do in your school. I was wondering whether you would let me join your class, as I love to thi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m always wondering about the world I live in. I am always thinking about questions such as what made the world? The great thing about this sort of thinking is that I can never be wrong as these sorts of questions have no right or wrong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have been told I ask too many questions but I think it is very important to ask questions and listen to id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would you let me  join in your thinking less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ve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ilosophy Bear x x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CAN01231_0000[1]"/>
          <p:cNvPicPr/>
          <p:nvPr/>
        </p:nvPicPr>
        <p:blipFill>
          <a:blip r:embed="rId3"/>
          <a:stretch/>
        </p:blipFill>
        <p:spPr>
          <a:xfrm>
            <a:off x="5000760" y="6572160"/>
            <a:ext cx="1536480" cy="15321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7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4:57:00Z</dcterms:created>
  <dc:creator>carlessn</dc:creator>
  <dc:description/>
  <dc:language>en-US</dc:language>
  <cp:lastModifiedBy>Nadine</cp:lastModifiedBy>
  <dcterms:modified xsi:type="dcterms:W3CDTF">2009-02-21T14:43:03Z</dcterms:modified>
  <cp:revision>2</cp:revision>
  <dc:subject/>
  <dc:title>Slide 1</dc:title>
</cp:coreProperties>
</file>