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3BF8-C4B4-4504-8D99-0FE4C1A33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8668-149F-4EFF-A3C0-1C619CB9C8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675-F3CF-4298-9F15-5CB1A958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BC0-DB1F-4A3E-B4BE-7A6A1CB1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D5A-FAC7-4770-BBC4-88AD5B0E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52B-4D36-4CB6-8F68-3C1C7977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494-1F47-4AD0-965B-D9D9BE5C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7E5-4DE2-4F63-99A7-2AB4B132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75F3-23EF-480D-8616-AF42AA2E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FC8-C54F-4D7A-9DD1-7F2BE047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E6F-C7AB-46C4-8A39-0086AEF6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BF2-13C9-43D3-803A-AD1B43BE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89B-125F-4CCE-BDE1-D608394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F2A-4418-4D4C-9828-A24F2BEF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119D-EE12-4CD8-A2B7-32B03DD6E8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158007"/>
          <p:cNvPicPr/>
          <p:nvPr/>
        </p:nvPicPr>
        <p:blipFill>
          <a:blip r:embed="rId1"/>
          <a:stretch/>
        </p:blipFill>
        <p:spPr>
          <a:xfrm>
            <a:off x="333360" y="0"/>
            <a:ext cx="6191280" cy="72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j0158007"/>
          <p:cNvPicPr/>
          <p:nvPr/>
        </p:nvPicPr>
        <p:blipFill>
          <a:blip r:embed="rId2"/>
          <a:stretch/>
        </p:blipFill>
        <p:spPr>
          <a:xfrm>
            <a:off x="285840" y="8001000"/>
            <a:ext cx="6191280" cy="728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04640" y="1187280"/>
            <a:ext cx="6120000" cy="65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ar Childr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y name is Philosophy Bear and I have heard about the thinking you do in your school. I was wondering whether you would let me join your class, as I love to thi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am always wondering about the world I live in. I am always thinking about questions such as what made the world? The great thing about this sort of thinking is that I can never be wrong as these sorts of questions have no right or wrong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have been told I ask too many questions but I think it is very important to ask questions and listen to id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would you let me  join in your thinking less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ve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ilosophy Bear x x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CAN01231_0000[1]"/>
          <p:cNvPicPr/>
          <p:nvPr/>
        </p:nvPicPr>
        <p:blipFill>
          <a:blip r:embed="rId3"/>
          <a:stretch/>
        </p:blipFill>
        <p:spPr>
          <a:xfrm>
            <a:off x="5000760" y="6572160"/>
            <a:ext cx="1536480" cy="15321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7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4:57:00Z</dcterms:created>
  <dc:creator>carlessn</dc:creator>
  <dc:description/>
  <dc:language>en-US</dc:language>
  <cp:lastModifiedBy>Nadine</cp:lastModifiedBy>
  <dcterms:modified xsi:type="dcterms:W3CDTF">2009-02-21T14:43:03Z</dcterms:modified>
  <cp:revision>2</cp:revision>
  <dc:subject/>
  <dc:title>Slide 1</dc:title>
</cp:coreProperties>
</file>