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6A88F2-F8AA-4159-9597-059F2C1439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E25CF-B6C0-4CE0-B0D0-477C326A1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8051D-D9C4-4721-8673-B8B5B5FE6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DFFCFE-34C5-4440-9675-6D5A14F6E6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8033B6-38BE-46AF-9B54-9246A351D8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11832A-7AC8-4B6F-A0BB-ACEF44323D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DFD17C-0790-43BE-BC19-61C9B4726F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8C09F2-A578-4EDB-811E-90D182BDF0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81327C-A9FB-494E-86B9-7864FCDCB7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E6ED74-8C29-465F-B806-FACF1C5017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AF612-F1E3-48BA-A40E-F6E597020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2177D-FDCE-47C5-9FA5-FF7BAA658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BD42E-F5F4-4BD9-B836-8755AC4D0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5063E9-5B22-4643-A8F0-61156A85E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8EE949-6DB9-45E6-8CD3-BAA2E24045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C993AF-47C4-4B7E-9B45-BF18CEC4CF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B3293B-DEDF-4E5C-B97B-6B99B5D246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793B0-54B0-45D3-AE13-2F6E14E1B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FB20B-0BAA-4EC6-989A-A21D66F25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D413E-CC67-450C-AE60-C59787627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36333-E13A-4F4A-A7BC-0220A1977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1E7FD-9B9A-4C5B-AC6F-EF4783BBD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AF9EE-4C5C-4E1A-85CD-13ED2293A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D5971-2005-476D-BD1F-0C27C6A6AF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9606E-C672-42A6-9A4C-96568056DBD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6F4A4-C209-4908-BD7A-3748B0933E2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Philosophy for Children (P4C) / Community of Enquiry</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M J Maidment</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in features / Characteristics </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nking time – not rushing through questions but thinking deeply</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type of questions explored have a number of possible answers (similar to those the pupils will face in life in general)</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eacher facilitates – doesn’t respond to pupils’ views but encourages other pupils to respond.</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upils should provide reasons and/or evidence for their arguments</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upils have ownership of lesson </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lass explore ideas together (including the teacher)</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important thing is not </a:t>
            </a:r>
            <a:r>
              <a:rPr b="1" i="1" lang="en-US" sz="2000" spc="-1" strike="noStrike" u="sng">
                <a:solidFill>
                  <a:srgbClr val="003366"/>
                </a:solidFill>
                <a:uFillTx/>
                <a:latin typeface="Arial"/>
              </a:rPr>
              <a:t>what</a:t>
            </a:r>
            <a:r>
              <a:rPr b="0" lang="en-US" sz="2000" spc="-1" strike="noStrike">
                <a:solidFill>
                  <a:srgbClr val="003366"/>
                </a:solidFill>
                <a:latin typeface="Arial"/>
              </a:rPr>
              <a:t> the pupils think but </a:t>
            </a:r>
            <a:r>
              <a:rPr b="1" i="1" lang="en-US" sz="2000" spc="-1" strike="noStrike" u="sng">
                <a:solidFill>
                  <a:srgbClr val="003366"/>
                </a:solidFill>
                <a:uFillTx/>
                <a:latin typeface="Arial"/>
              </a:rPr>
              <a:t>that</a:t>
            </a:r>
            <a:r>
              <a:rPr b="0" lang="en-US" sz="2000" spc="-1" strike="noStrike">
                <a:solidFill>
                  <a:srgbClr val="003366"/>
                </a:solidFill>
                <a:latin typeface="Arial"/>
              </a:rPr>
              <a:t> they think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enefits of P4C </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ow preparation high impact teaching</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velops thinking skills (individual and collaborative, creative and critical, empathetic and reflective / meta-cognitive thinking)</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velops communication skills (i.e. speaking and listening)</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mproves self-esteem and behaviour</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mproves academic results</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It develops enquiring minds and hopefully produces innovative adults</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udents enjoy it!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dditional Information</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4C and other subjec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amples of stimul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What is P4C?</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 classroom method designed to promote and develop thinking and communication skills, moral awareness and the ability to work with oth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t has become central to our delivery of PS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more information visit www.</a:t>
            </a:r>
            <a:r>
              <a:rPr b="1" lang="en-US" sz="2800" spc="-1" strike="noStrike">
                <a:solidFill>
                  <a:srgbClr val="003366"/>
                </a:solidFill>
                <a:latin typeface="Arial"/>
              </a:rPr>
              <a:t>sapere</a:t>
            </a:r>
            <a:r>
              <a:rPr b="0" lang="en-US" sz="2800" spc="-1" strike="noStrike">
                <a:solidFill>
                  <a:srgbClr val="003366"/>
                </a:solidFill>
                <a:latin typeface="Arial"/>
              </a:rPr>
              <a:t>.ne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is P4C central to PSE? </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vidence shows that traditional methods of delivering PSE have little affect on the behaviour and attitudes of learners. It’s only when students begin to develop thinking skills that changes occur.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assroom layout </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scussion work</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inesthetic</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isual stimuli on white board</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ritten work</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tects displays</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bservation of written work</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ack of distraction</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asy to keep clean!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sson Starter </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ames for thinking / starters for thinking / meditation </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im of starter may be to energize or to calm pupils, to get them thinking and to have fun. The main aim of the starter is always to focus pupils attention. </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ruit salad</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dd one out – listening skills and memory</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gister pupils</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ounds</a:t>
            </a:r>
            <a:endParaRPr b="0" lang="en-US" sz="2400" spc="-1" strike="noStrike">
              <a:solidFill>
                <a:srgbClr val="003366"/>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imulus / stimuli </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g. DVD, web clip, CD (and lyrics), story, poem or picture</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enn diagrams, snowballing, comprehension questions</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ually ask pupils for their initial thoughts on the stimulus and use the sentence starters (thinking time is essential)</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upils share views with partners or with clas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Formulating philosophical questions </a:t>
            </a:r>
            <a:endParaRPr b="1" lang="en-US" sz="32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upils formulate questions individually</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upils discuss questions in small groups and decide on the best question</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member of each group writes their group’s question on the board</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lass votes for the question they would most like to discus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acilitating class discussion </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f nobody speaks – thinking time or partner work to gain confidence</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f nobody will ‘shut-up’! – partner work to get it off their chests </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o with the flow – don’t fight the class!</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upils should be encouraged to give reasons and evidence to back their arguments</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acher should try not to respond to pupils’ views but encourage other pupils to respond (easier said than done!)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al comments </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sson usually ends with reflective thoughts from students</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nking time again needs to be given</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very pupil is given the opportunity to comment</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ntence starters can be use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8T16:44:47Z</dcterms:created>
  <dc:creator>MAIDMENT</dc:creator>
  <dc:description/>
  <dc:language>en-US</dc:language>
  <cp:lastModifiedBy>MAIDMENT</cp:lastModifiedBy>
  <dcterms:modified xsi:type="dcterms:W3CDTF">2009-01-18T23:09:05Z</dcterms:modified>
  <cp:revision>5</cp:revision>
  <dc:subject/>
  <dc:title>Philosophy for Children (P4C) / Community of Enquiry</dc:title>
</cp:coreProperties>
</file>