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5B6558-1887-451F-8603-02EAB878F4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193C4-3B78-478E-BE76-43BF0E156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4FEFBB-AA54-42E9-8AD2-E5C25EEE30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2C3AF5-A7AE-42E7-987E-DAE2D37279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2350C7-EF06-4799-8FE9-CC8F95A4EA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24A384-5A33-4790-A087-6D38E34842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5199DD-AACC-4E94-B6F9-EC36DDF2E0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27B54F-0777-4076-8BE3-792F4B9C4B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D278EB-2B9A-4B8F-822D-C4ECB8F6C4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DF4FC0-9F54-4AF5-A41D-FBFFD1ABE3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30F15F-0B6C-4E8C-AC02-DCE33DC9E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BAFE7-D228-4657-9E31-2889D61DF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C6B525-DE2D-4F77-8CEC-F910D269D0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088781-4CF6-4E9B-B454-21D7DDDCB7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C37D35-41F4-43B9-ABA1-9D011E225D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2A6767-5CD3-402E-97B9-65CDFD6B2C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6F5CE1-2661-474D-9967-D16C4150BA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923DE-D113-464E-9FD3-85E398E6A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C5BC9-9D79-4FB0-9BF8-9852760E5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9D4BF-8AA8-4E25-9CDC-FFE078287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A5A14-EEA1-4018-AF94-5B49400EC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D5CC8-0E2C-4AF7-87A5-9473A8B17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A8332-89A6-4920-92E3-6D05D4952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BAAE2-7BFC-4753-AE99-476831A75B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54855-A543-4DB8-B48B-B4F86CD223C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E570F-9F58-400E-ACCF-2588E1FC81C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Arial"/>
              </a:rPr>
              <a:t>Philosophy for Children (P4C) / Community of Enquiry</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Arial"/>
              </a:rPr>
              <a:t>M J Maidment</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in features / Characteristics </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nking time – not rushing through questions but thinking deeply</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type of questions explored have a number of possible answers (similar to those the pupils will face in life in general)</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eacher facilitates – doesn’t respond to pupils’ views but encourages other pupils to respond.</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upils should provide reasons and/or evidence for their arguments</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upils have ownership of lesson </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lass explore ideas together (including the teacher)</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important thing is not </a:t>
            </a:r>
            <a:r>
              <a:rPr b="1" i="1" lang="en-US" sz="2000" spc="-1" strike="noStrike" u="sng">
                <a:solidFill>
                  <a:srgbClr val="003366"/>
                </a:solidFill>
                <a:uFillTx/>
                <a:latin typeface="Arial"/>
              </a:rPr>
              <a:t>what</a:t>
            </a:r>
            <a:r>
              <a:rPr b="0" lang="en-US" sz="2000" spc="-1" strike="noStrike">
                <a:solidFill>
                  <a:srgbClr val="003366"/>
                </a:solidFill>
                <a:latin typeface="Arial"/>
              </a:rPr>
              <a:t> the pupils think but </a:t>
            </a:r>
            <a:r>
              <a:rPr b="1" i="1" lang="en-US" sz="2000" spc="-1" strike="noStrike" u="sng">
                <a:solidFill>
                  <a:srgbClr val="003366"/>
                </a:solidFill>
                <a:uFillTx/>
                <a:latin typeface="Arial"/>
              </a:rPr>
              <a:t>that</a:t>
            </a:r>
            <a:r>
              <a:rPr b="0" lang="en-US" sz="2000" spc="-1" strike="noStrike">
                <a:solidFill>
                  <a:srgbClr val="003366"/>
                </a:solidFill>
                <a:latin typeface="Arial"/>
              </a:rPr>
              <a:t> they think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enefits of P4C </a:t>
            </a:r>
            <a:endParaRPr b="1" lang="en-US" sz="3600" spc="-1" strike="noStrike">
              <a:solidFill>
                <a:srgbClr val="006666"/>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ow preparation high impact teaching</a:t>
            </a:r>
            <a:endParaRPr b="0" lang="en-US" sz="2000" spc="-1" strike="noStrike">
              <a:solidFill>
                <a:srgbClr val="003366"/>
              </a:solidFill>
              <a:latin typeface="Arial"/>
            </a:endParaRPr>
          </a:p>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velops thinking skills (individual and collaborative, creative and critical, empathetic and reflective / meta-cognitive thinking)</a:t>
            </a:r>
            <a:endParaRPr b="0" lang="en-US" sz="2000" spc="-1" strike="noStrike">
              <a:solidFill>
                <a:srgbClr val="003366"/>
              </a:solidFill>
              <a:latin typeface="Arial"/>
            </a:endParaRPr>
          </a:p>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velops communication skills (i.e. speaking and listening)</a:t>
            </a:r>
            <a:endParaRPr b="0" lang="en-US" sz="2000" spc="-1" strike="noStrike">
              <a:solidFill>
                <a:srgbClr val="003366"/>
              </a:solidFill>
              <a:latin typeface="Arial"/>
            </a:endParaRPr>
          </a:p>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mproves self-esteem and behaviour</a:t>
            </a:r>
            <a:endParaRPr b="0" lang="en-US" sz="2000" spc="-1" strike="noStrike">
              <a:solidFill>
                <a:srgbClr val="003366"/>
              </a:solidFill>
              <a:latin typeface="Arial"/>
            </a:endParaRPr>
          </a:p>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mproves academic results</a:t>
            </a:r>
            <a:endParaRPr b="0" lang="en-US" sz="2000" spc="-1" strike="noStrike">
              <a:solidFill>
                <a:srgbClr val="003366"/>
              </a:solidFill>
              <a:latin typeface="Arial"/>
            </a:endParaRPr>
          </a:p>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It develops enquiring minds and hopefully produces innovative adults</a:t>
            </a:r>
            <a:endParaRPr b="0" lang="en-US" sz="2000" spc="-1" strike="noStrike">
              <a:solidFill>
                <a:srgbClr val="003366"/>
              </a:solidFill>
              <a:latin typeface="Arial"/>
            </a:endParaRPr>
          </a:p>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udents enjoy it!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dditional Information</a:t>
            </a:r>
            <a:endParaRPr b="1" lang="en-US" sz="36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4C and other subjec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amples of stimul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What is P4C?</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 classroom method designed to promote and develop thinking and communication skills, moral awareness and the ability to work with othe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It has become central to our delivery of PS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more information visit www.</a:t>
            </a:r>
            <a:r>
              <a:rPr b="1" lang="en-US" sz="2800" spc="-1" strike="noStrike">
                <a:solidFill>
                  <a:srgbClr val="003366"/>
                </a:solidFill>
                <a:latin typeface="Arial"/>
              </a:rPr>
              <a:t>sapere</a:t>
            </a:r>
            <a:r>
              <a:rPr b="0" lang="en-US" sz="2800" spc="-1" strike="noStrike">
                <a:solidFill>
                  <a:srgbClr val="003366"/>
                </a:solidFill>
                <a:latin typeface="Arial"/>
              </a:rPr>
              <a:t>.ne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y is P4C central to PSE? </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vidence shows that traditional methods of delivering PSE have little affect on the behaviour and attitudes of learners. It’s only when students begin to develop thinking skills that changes occur.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assroom layout </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iscussion work</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inesthetic</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isual stimuli on white board</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ritten work</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tects displays</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bservation of written work</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ack of distraction</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asy to keep clean!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sson Starter </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ames for thinking / starters for thinking / meditation </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im of starter may be to energize or to calm pupils, to get them thinking and to have fun. The main aim of the starter is always to focus pupils attention. </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ruit salad</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dd one out – listening skills and memory</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gister pupils</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ounds</a:t>
            </a:r>
            <a:endParaRPr b="0" lang="en-US" sz="2400" spc="-1" strike="noStrike">
              <a:solidFill>
                <a:srgbClr val="003366"/>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imulus / stimuli </a:t>
            </a:r>
            <a:endParaRPr b="1" lang="en-US" sz="3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g. DVD, web clip, CD (and lyrics), story, poem or picture</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enn diagrams, snowballing, comprehension questions</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ually ask pupils for their initial thoughts on the stimulus and use the sentence starters (thinking time is essential)</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upils share views with partners or with clas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Formulating philosophical questions </a:t>
            </a:r>
            <a:endParaRPr b="1" lang="en-US" sz="32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upils formulate questions individually</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upils discuss questions in small groups and decide on the best question</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member of each group writes their group’s question on the board</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lass votes for the question they would most like to discuss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acilitating class discussion </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f nobody speaks – thinking time or partner work to gain confidence</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f nobody will ‘shut-up’! – partner work to get it off their chests </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o with the flow – don’t fight the class!</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Pupils should be encouraged to give reasons and evidence to back their arguments</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eacher should try not to respond to pupils’ views but encourage other pupils to respond (easier said than done!)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nal comments </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sson usually ends with reflective thoughts from students</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nking time again needs to be given</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very pupil is given the opportunity to comment</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ntence starters can be use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8T16:44:47Z</dcterms:created>
  <dc:creator>MAIDMENT</dc:creator>
  <dc:description/>
  <dc:language>en-US</dc:language>
  <cp:lastModifiedBy>MAIDMENT</cp:lastModifiedBy>
  <dcterms:modified xsi:type="dcterms:W3CDTF">2009-01-18T23:09:05Z</dcterms:modified>
  <cp:revision>5</cp:revision>
  <dc:subject/>
  <dc:title>Philosophy for Children (P4C) / Community of Enquiry</dc:title>
</cp:coreProperties>
</file>