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40F39-548B-4FEC-87CB-F95AEAC15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B20E4-931B-45BC-915B-877830446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F27BE-43E2-4951-BA9C-BE2488827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E847E-2B43-4A88-BAF8-66499F819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53653-DF21-470F-A5BB-EF9D4CD70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34DC1-54ED-4F5E-A8B5-B91C63AB2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70C0E-F818-45A4-9326-12CBD3245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38873-58D9-46D3-92B2-7A352277A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809DD-F67C-4D56-9834-7FE2D8689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D8310-411C-40C6-9844-D55950D3F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576A2-6FEA-4354-9AEE-3BF4EECC4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DE07E-33B2-4957-A38A-0D2285351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EFDFF-F1FE-48BB-9427-B37556FCE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65155-1E3D-4F5F-9DA7-A8B58C686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FFE5C-BB13-439A-B2FD-4AEAC7FD7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82999-4446-4256-9FEA-FE0B1A831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3BBD9-9F47-498B-9A2C-4C036E9EF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156E-615C-44BC-AA11-7242BABE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100F1-B367-4BC5-85F9-AC1924643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E75AE-3430-4FA3-B83A-9F15D58C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DC1A3-6936-427F-B354-D38C69EE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A601-9352-49C6-8FAB-E7F330245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1BA49-71CB-4B14-86A7-E8542DD35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B0B9C-EDFD-4270-983B-B32B1F2BB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CA6E-0A54-4FAD-915D-238CF6D06C8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D2FC-0021-46D0-AE79-B319BF3DC02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Philosophy for Children (P4C) / Community of Enquiry</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M J Maidmen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features / Characteristics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ing time – not rushing through questions but thinking deeply</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ype of questions explored have a number of possible answers (similar to those the pupils will face in life in gener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facilitates – doesn’t respond to pupils’ views but encourages other pupils to respond.</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should provide reasons and/or evidence for their argument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have ownership of lesson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 explore ideas together (including the teach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mportant thing is not </a:t>
            </a:r>
            <a:r>
              <a:rPr b="1" i="1" lang="en-US" sz="2000" spc="-1" strike="noStrike" u="sng">
                <a:solidFill>
                  <a:srgbClr val="003366"/>
                </a:solidFill>
                <a:uFillTx/>
                <a:latin typeface="Arial"/>
              </a:rPr>
              <a:t>what</a:t>
            </a:r>
            <a:r>
              <a:rPr b="0" lang="en-US" sz="2000" spc="-1" strike="noStrike">
                <a:solidFill>
                  <a:srgbClr val="003366"/>
                </a:solidFill>
                <a:latin typeface="Arial"/>
              </a:rPr>
              <a:t> the pupils think but </a:t>
            </a:r>
            <a:r>
              <a:rPr b="1" i="1" lang="en-US" sz="2000" spc="-1" strike="noStrike" u="sng">
                <a:solidFill>
                  <a:srgbClr val="003366"/>
                </a:solidFill>
                <a:uFillTx/>
                <a:latin typeface="Arial"/>
              </a:rPr>
              <a:t>that</a:t>
            </a:r>
            <a:r>
              <a:rPr b="0" lang="en-US" sz="2000" spc="-1" strike="noStrike">
                <a:solidFill>
                  <a:srgbClr val="003366"/>
                </a:solidFill>
                <a:latin typeface="Arial"/>
              </a:rPr>
              <a:t> they think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P4C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preparation high impact teach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thinking skills (individual and collaborative, creative and critical, empathetic and reflective / meta-cognitive think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communication skills (i.e. speaking and listen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self-esteem and behaviour</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academic res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t develops enquiring minds and hopefully produces innovative ad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enjoy i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dditional Informatio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4C and other su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stimu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P4C?</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classroom method designed to promote and develop thinking and communication skills, moral awareness and the ability to work with oth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t has become central to our delivery of P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ore information visit www.</a:t>
            </a:r>
            <a:r>
              <a:rPr b="1" lang="en-US" sz="2800" spc="-1" strike="noStrike">
                <a:solidFill>
                  <a:srgbClr val="003366"/>
                </a:solidFill>
                <a:latin typeface="Arial"/>
              </a:rPr>
              <a:t>sapere</a:t>
            </a:r>
            <a:r>
              <a:rPr b="0" lang="en-US" sz="2800" spc="-1" strike="noStrike">
                <a:solidFill>
                  <a:srgbClr val="003366"/>
                </a:solidFill>
                <a:latin typeface="Arial"/>
              </a:rPr>
              <a:t>.ne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P4C central to PSE? </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idence shows that traditional methods of delivering PSE have little affect on the behaviour and attitudes of learners. It’s only when students begin to develop thinking skills that changes occu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room layou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ussio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esthetic</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stimuli on white board</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tects display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ation of 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distraction</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keep clea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 Starter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mes for thinking / starters for thinking / medita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m of starter may be to energize or to calm pupils, to get them thinking and to have fun. The main aim of the starter is always to focus pupils atten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uit salad</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dd one out – listening skills and memory</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ister pupil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unds</a:t>
            </a:r>
            <a:endParaRPr b="0" lang="en-US" sz="2400" spc="-1" strike="noStrike">
              <a:solidFill>
                <a:srgbClr val="003366"/>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mulus / stimuli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VD, web clip, CD (and lyrics), story, poem or picture</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n diagrams, snowballing, comprehension quest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k pupils for their initial thoughts on the stimulus and use the sentence starters (thinking time is essenti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pils share views with partners or with cla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ormulating philosophical questions </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formulate questions individuall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discuss questions in small groups and decide on the best questio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mber of each group writes their group’s question on the board</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lass votes for the question they would most like to discus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cilitating class discussion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speaks – thinking time or partner work to gain confidence</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will ‘shut-up’! – partner work to get it off their chest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with the flow – don’t fight the clas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upils should be encouraged to give reasons and evidence to back their argument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 should try not to respond to pupils’ views but encourage other pupils to respond (easier said than don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l comments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sson usually ends with reflective thoughts from students</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ing time again needs to be give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pupil is given the opportunity to commen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tence starters can be 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6:44:47Z</dcterms:created>
  <dc:creator>MAIDMENT</dc:creator>
  <dc:description/>
  <dc:language>en-US</dc:language>
  <cp:lastModifiedBy>MAIDMENT</cp:lastModifiedBy>
  <dcterms:modified xsi:type="dcterms:W3CDTF">2009-01-18T23:09:05Z</dcterms:modified>
  <cp:revision>5</cp:revision>
  <dc:subject/>
  <dc:title>Philosophy for Children (P4C) / Community of Enquiry</dc:title>
</cp:coreProperties>
</file>