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59DC-7CB3-41AB-8A72-4FE1E24AC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7A85-82A3-425F-A933-31B0554C2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C8EF8-8B5B-4095-B8C5-1D073DDF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AFA19-454A-49BA-9D03-7099AEC40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23D14-105E-471A-8A72-1A2AFB59F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D4C0B-4E20-432E-BEC7-5C703C076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51A6C-8917-418B-AD36-B3A850BA7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F6DF7-0E27-48DD-BBFF-EE242A84A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333C4-DF22-4952-916C-767536C55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397E6-7911-4D30-8CFD-3C9C21F4B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D0DAD-06AC-44EB-9D94-D3C616346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BA50-A1CB-4C07-9CEC-44EB4B83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BFB9C-CD51-40BF-9DE7-B85F2A2A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38710-3D21-4A1A-9F62-409BEB9C4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2E9AF-C973-4092-86F4-3FC48F785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DF11C-2310-4499-9C7E-0B614E4EE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B1A6A-7DA9-4E79-ACAB-4D6DE234F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299EB-E0D4-4913-B523-9A7CF7536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2F4B-D46D-4D4B-8FCB-D10A22418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D5E8-100B-4306-93AF-2215367FA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C43AD-DE34-4E63-B316-B39ABCE2E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F95B4-CE14-4786-A9D2-355DEDC3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5C85-EAC0-44EF-B808-03833F4F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EBE9-B9E5-4A26-8530-45EBD2F49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4545-9A47-49B1-B8CA-974D4DBC68B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7784-49F7-4124-83D1-1FF6860C571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Philosophy for Children (P4C) / Community of Enquiry</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M J Maidm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features / Characteristic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ing time – not rushing through questions but thinking deeply</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type of questions explored have a number of possible answers (similar to those the pupils will face in life in general)</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facilitates – doesn’t respond to pupils’ views but encourages other pupils to respond.</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should provide reasons and/or evidence for their arguments</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pils have ownership of lesson </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lass explore ideas together (including the teacher)</a:t>
            </a:r>
            <a:endParaRPr b="0" lang="en-US" sz="2000" spc="-1" strike="noStrike">
              <a:solidFill>
                <a:srgbClr val="003366"/>
              </a:solidFill>
              <a:latin typeface="Arial"/>
            </a:endParaRPr>
          </a:p>
          <a:p>
            <a:pPr marL="533520" indent="-53352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mportant thing is not </a:t>
            </a:r>
            <a:r>
              <a:rPr b="1" i="1" lang="en-US" sz="2000" spc="-1" strike="noStrike" u="sng">
                <a:solidFill>
                  <a:srgbClr val="003366"/>
                </a:solidFill>
                <a:uFillTx/>
                <a:latin typeface="Arial"/>
              </a:rPr>
              <a:t>what</a:t>
            </a:r>
            <a:r>
              <a:rPr b="0" lang="en-US" sz="2000" spc="-1" strike="noStrike">
                <a:solidFill>
                  <a:srgbClr val="003366"/>
                </a:solidFill>
                <a:latin typeface="Arial"/>
              </a:rPr>
              <a:t> the pupils think but </a:t>
            </a:r>
            <a:r>
              <a:rPr b="1" i="1" lang="en-US" sz="2000" spc="-1" strike="noStrike" u="sng">
                <a:solidFill>
                  <a:srgbClr val="003366"/>
                </a:solidFill>
                <a:uFillTx/>
                <a:latin typeface="Arial"/>
              </a:rPr>
              <a:t>that</a:t>
            </a:r>
            <a:r>
              <a:rPr b="0" lang="en-US" sz="2000" spc="-1" strike="noStrike">
                <a:solidFill>
                  <a:srgbClr val="003366"/>
                </a:solidFill>
                <a:latin typeface="Arial"/>
              </a:rPr>
              <a:t> they think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P4C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w preparation high impact teach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thinking skills (individual and collaborative, creative and critical, empathetic and reflective / meta-cognitive think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velops communication skills (i.e. speaking and listening)</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self-esteem and behaviour</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roves academic res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t develops enquiring minds and hopefully produces innovative adult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enjoy i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dditional Information</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4C and other subje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 of stimu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P4C?</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classroom method designed to promote and develop thinking and communication skills, moral awareness and the ability to work with ot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has become central to our delivery of P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more information visit www.</a:t>
            </a:r>
            <a:r>
              <a:rPr b="1" lang="en-US" sz="2800" spc="-1" strike="noStrike">
                <a:solidFill>
                  <a:srgbClr val="003366"/>
                </a:solidFill>
                <a:latin typeface="Arial"/>
              </a:rPr>
              <a:t>sapere</a:t>
            </a:r>
            <a:r>
              <a:rPr b="0" lang="en-US" sz="2800" spc="-1" strike="noStrike">
                <a:solidFill>
                  <a:srgbClr val="003366"/>
                </a:solidFill>
                <a:latin typeface="Arial"/>
              </a:rPr>
              <a:t>.ne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P4C central to PSE? </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idence shows that traditional methods of delivering PSE have little affect on the behaviour and attitudes of learners. It’s only when students begin to develop thinking skills that changes occu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room layou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scussio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esthetic</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timuli on white board</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tects display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servation of written work</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distraction</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sy to keep clean!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son Starter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mes for thinking / starters for thinking / medita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im of starter may be to energize or to calm pupils, to get them thinking and to have fun. The main aim of the starter is always to focus pupils attention.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uit salad</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one out – listening skills and memory</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ister pupil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unds</a:t>
            </a:r>
            <a:endParaRPr b="0" lang="en-US" sz="2400" spc="-1" strike="noStrike">
              <a:solidFill>
                <a:srgbClr val="003366"/>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mulus / stimuli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g. DVD, web clip, CD (and lyrics), story, poem or picture</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n diagrams, snowballing, comprehension quest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k pupils for their initial thoughts on the stimulus and use the sentence starters (thinking time is essential)</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pils share views with partners or with cla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mulating philosophical questions </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formulate questions individually</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pils discuss questions in small groups and decide on the best questio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ember of each group writes their group’s question on the board</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lass votes for the question they would most like to discus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cilitating class discussion </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speaks – thinking time or partner work to gain confidence</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f nobody will ‘shut-up’! – partner work to get it off their chests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 with the flow – don’t fight the clas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upils should be encouraged to give reasons and evidence to back their arguments</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er should try not to respond to pupils’ views but encourage other pupils to respond (easier said than don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al comments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on usually ends with reflective thoughts from students</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ing time again needs to be given</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ry pupil is given the opportunity to comment</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tence starters can be 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6:44:47Z</dcterms:created>
  <dc:creator>MAIDMENT</dc:creator>
  <dc:description/>
  <dc:language>en-US</dc:language>
  <cp:lastModifiedBy>MAIDMENT</cp:lastModifiedBy>
  <dcterms:modified xsi:type="dcterms:W3CDTF">2009-01-18T23:09:05Z</dcterms:modified>
  <cp:revision>5</cp:revision>
  <dc:subject/>
  <dc:title>Philosophy for Children (P4C) / Community of Enquiry</dc:title>
</cp:coreProperties>
</file>