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A0AFA-EB50-49A5-8A9E-D94DD3469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98627-2373-47B6-840F-2EC41A91C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988CE-2A6A-4880-A58B-5E8110A2E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9BE1B-07FF-4FC8-BAEC-A5B0C372C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0D5BA-1A27-4310-9DED-BB1FE503C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B9D7D-3B14-41E1-AB7D-214B8EE61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115ED-727B-4A94-8A45-AE44456E4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6FE9F-1C60-451C-B225-9BE09BACD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CE91D-B9D9-42B1-AAE7-A9E168082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F9E8C-B5BC-4131-8154-6A8787EFB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1A965-44A9-443E-9D1D-05CE11405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61CCC-8D6F-42F9-B89C-9A3B82DDC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9BFB5-FDB5-447C-B492-97C86AF33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230DE-CC6C-44C0-8368-617E60659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DF762-BDEC-49A4-8821-FEE8C7E82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F90FD-1886-4F71-9BE4-65CE55078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D09AC-D175-4659-A9DE-A116BF668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CE1B0-AE3F-420F-A9C8-292E4324B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8D57-1F33-4B6C-958E-F465D13A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B4C6-5763-4AC6-B6CB-415F6721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7E4E5-967A-46C4-8285-CC2E21E47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D39D-6DFC-401A-9A3C-599FCFE2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EA5A-BBDD-4273-8ABD-8130BA86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B6C5-F0DA-45A5-8237-459D13720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C7B6-F320-4E01-BDB3-0F7A514D683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1AEA-2083-4105-8FBE-E43D6A28C3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Philosophy for Children (P4C) / Community of Enquiry</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M J Maidm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features / Characteristic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ing time – not rushing through questions but thinking deeply</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ype of questions explored have a number of possible answers (similar to those the pupils will face in life in gener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facilitates – doesn’t respond to pupils’ views but encourages other pupils to respond.</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should provide reasons and/or evidence for their argument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have ownership of lesson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 explore ideas together (including the teach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mportant thing is not </a:t>
            </a:r>
            <a:r>
              <a:rPr b="1" i="1" lang="en-US" sz="2000" spc="-1" strike="noStrike" u="sng">
                <a:solidFill>
                  <a:srgbClr val="003366"/>
                </a:solidFill>
                <a:uFillTx/>
                <a:latin typeface="Arial"/>
              </a:rPr>
              <a:t>what</a:t>
            </a:r>
            <a:r>
              <a:rPr b="0" lang="en-US" sz="2000" spc="-1" strike="noStrike">
                <a:solidFill>
                  <a:srgbClr val="003366"/>
                </a:solidFill>
                <a:latin typeface="Arial"/>
              </a:rPr>
              <a:t> the pupils think but </a:t>
            </a:r>
            <a:r>
              <a:rPr b="1" i="1" lang="en-US" sz="2000" spc="-1" strike="noStrike" u="sng">
                <a:solidFill>
                  <a:srgbClr val="003366"/>
                </a:solidFill>
                <a:uFillTx/>
                <a:latin typeface="Arial"/>
              </a:rPr>
              <a:t>that</a:t>
            </a:r>
            <a:r>
              <a:rPr b="0" lang="en-US" sz="2000" spc="-1" strike="noStrike">
                <a:solidFill>
                  <a:srgbClr val="003366"/>
                </a:solidFill>
                <a:latin typeface="Arial"/>
              </a:rPr>
              <a:t> they think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P4C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preparation high impact teach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thinking skills (individual and collaborative, creative and critical, empathetic and reflective / meta-cognitive think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communication skills (i.e. speaking and listen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self-esteem and behaviour</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academic res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t develops enquiring minds and hopefully produces innovative ad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enjoy i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dditional Inform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4C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timu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P4C?</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classroom method designed to promote and develop thinking and communication skills, moral awareness and the ability to work with ot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t has become central to our delivery of P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ore information visit www.</a:t>
            </a:r>
            <a:r>
              <a:rPr b="1" lang="en-US" sz="2800" spc="-1" strike="noStrike">
                <a:solidFill>
                  <a:srgbClr val="003366"/>
                </a:solidFill>
                <a:latin typeface="Arial"/>
              </a:rPr>
              <a:t>sapere</a:t>
            </a:r>
            <a:r>
              <a:rPr b="0" lang="en-US" sz="2800" spc="-1" strike="noStrike">
                <a:solidFill>
                  <a:srgbClr val="003366"/>
                </a:solidFill>
                <a:latin typeface="Arial"/>
              </a:rPr>
              <a:t>.ne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P4C central to PSE?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idence shows that traditional methods of delivering PSE have little affect on the behaviour and attitudes of learners. It’s only when students begin to develop thinking skills that changes occu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room layou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ussio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esthetic</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timuli on white board</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cts display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tion of 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distraction</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keep clea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 Starter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for thinking / starters for thinking / medita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m of starter may be to energize or to calm pupils, to get them thinking and to have fun. The main aim of the starter is always to focus pupils atten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it salad</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one out – listening skills and memory</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ister pupil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unds</a:t>
            </a:r>
            <a:endParaRPr b="0" lang="en-US" sz="2400" spc="-1" strike="noStrike">
              <a:solidFill>
                <a:srgbClr val="003366"/>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mulus / stimuli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VD, web clip, CD (and lyrics), story, poem or picture</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n diagrams, snowballing, comprehension quest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k pupils for their initial thoughts on the stimulus and use the sentence starters (thinking time is essenti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pils share views with partners or with cla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mulating philosophical questions </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formulate questions individuall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discuss questions in small groups and decide on the best questio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mber of each group writes their group’s question on the board</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lass votes for the question they would most like to discus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cilitating class discussion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speaks – thinking time or partner work to gain confidenc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will ‘shut-up’! – partner work to get it off their chest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with the flow – don’t fight the clas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upils should be encouraged to give reasons and evidence to back their argument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 should try not to respond to pupils’ views but encourage other pupils to respond (easier said than don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l comments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on usually ends with reflective thoughts from students</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ing time again needs to be give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pupil is given the opportunity to commen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tence starters can be 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6:44:47Z</dcterms:created>
  <dc:creator>MAIDMENT</dc:creator>
  <dc:description/>
  <dc:language>en-US</dc:language>
  <cp:lastModifiedBy>MAIDMENT</cp:lastModifiedBy>
  <dcterms:modified xsi:type="dcterms:W3CDTF">2009-01-18T23:09:05Z</dcterms:modified>
  <cp:revision>5</cp:revision>
  <dc:subject/>
  <dc:title>Philosophy for Children (P4C) / Community of Enquiry</dc:title>
</cp:coreProperties>
</file>